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0.jpeg" ContentType="image/jpeg"/>
  <Override PartName="/ppt/media/image18.jpeg" ContentType="image/jpeg"/>
  <Override PartName="/ppt/media/image15.jpeg" ContentType="image/jpeg"/>
  <Override PartName="/ppt/media/image3.wmf" ContentType="image/x-wmf"/>
  <Override PartName="/ppt/media/image21.png" ContentType="image/png"/>
  <Override PartName="/ppt/media/image19.png" ContentType="image/png"/>
  <Override PartName="/ppt/media/image16.gif" ContentType="image/gif"/>
  <Override PartName="/ppt/media/image1.wmf" ContentType="image/x-wmf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113-0D35-4EFD-826C-7E9AB9C2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FED-86B7-4DD3-895F-0868BFF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5A5-E955-4548-9048-E62D289D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B94-F825-425C-92CD-287203E0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C1A4-064D-4910-B2B7-7EB161DD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6060-5EFD-4982-8FB0-D435B53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1BD0-38D9-4587-8CAE-D7463776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D84D-70C2-4EC4-98A2-868ADCAF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51E2-8CFB-463E-8495-E455CEA9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56CD-BBF5-4D23-85FC-12E4AF4B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DB76-CB95-4829-A9AC-B4850CB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301-BC31-4F4E-858F-99C94EC8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0DE4-B02A-44B0-B0E5-01C1080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F4F2-7BC0-4D05-A14A-0640631B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DC5B-A48E-47D3-B3E6-E2A5B665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10BE-9ADD-4CCC-B113-565EA9F0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01B8-BB69-4B04-98A8-21DD7BAF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1AE-F95C-4763-A42D-FA236B40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2DB-2F0F-4323-A3D3-1BC5655B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FD2-79DA-474B-A716-19C09DFD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EF8-26D1-4D43-85C1-520728BF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65F-C356-43BE-B427-FABBF21E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E46-4442-4927-8B5B-1EE0B005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E90-0138-440D-A843-53CDAE9C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D349-852D-4766-8831-88B9FF696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0DCA-E5CB-4D94-8A59-539FD0ABD9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iskunov@astro.uu.se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al Astr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PhD course by Nikolai Piskunov</a:t>
            </a:r>
            <a:br>
              <a:rPr sz="3200"/>
            </a:b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gency FB"/>
                <a:hlinkClick r:id="rId1"/>
              </a:rPr>
              <a:t>piskunov@astro.uu.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phone: 018 471 58 5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6E45-7A47-4888-83C4-928285B6C76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94F0420-C2E6-4BF9-B90F-6053A91A42A5}" type="datetime3">
              <a:rPr lang="en-US"/>
              <a:t>July 30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omechan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king must be very smoo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itation sources: mechanical noise and wi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vibration frequencies have lower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design target: make resonance frequencies of the telescope as high as possible (&gt;10 Hz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C39-EF0A-4EF5-BDF4-C581AC3B35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gular re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gular resol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s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/diame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base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o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05520" y="1662120"/>
            <a:ext cx="4038480" cy="2452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629400" y="1309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O OWL 100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114800" y="4157640"/>
            <a:ext cx="289548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A20-C861-4601-9EE7-A8773A426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tle bit of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66520" y="2017800"/>
            <a:ext cx="628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lileo Galilei (1564-164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scope description published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dereus Nunci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tarry Messenger) 16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64152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permission of the Master and Fellows of Trinity College Cambrid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319480"/>
            <a:ext cx="3097080" cy="4157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09880" y="3429000"/>
            <a:ext cx="4267440" cy="27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010-039D-42DE-B3CF-FE6E44488A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ra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ractors are based on len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y to make, can combine several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matic aberr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st refractor (1897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rkes Obs. 40”, f/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86560" y="3124080"/>
            <a:ext cx="2923920" cy="1228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29280" y="4419720"/>
            <a:ext cx="1463760" cy="2400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" y="5400720"/>
            <a:ext cx="4495680" cy="1252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76920" y="572436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5943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EA8-C4C1-4106-9D68-871E6292DB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ts of options: from basic single mirror to Newtonian and Casseg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27274" t="0" r="0" b="0"/>
          <a:stretch/>
        </p:blipFill>
        <p:spPr>
          <a:xfrm>
            <a:off x="2362320" y="3048120"/>
            <a:ext cx="4267080" cy="38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5BF-1D12-4552-BA7D-71115D6ED9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: refra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xial sym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ation of multipl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 for small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romat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making many meter size le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v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ke segmented le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5BD-EC4D-46AC-B03C-C9AD89293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: refle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(high surface/weight rat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made in large sizes from temperature insensitive mate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made in large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made segm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can be adjusted (“flexible” mirro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comb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make axial systems (vign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E61-9445-4199-89DE-BC53C14015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alized telescop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field (Schmidt came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-red (coatings, thermal contr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/robotic telescopes (complex telescope control syst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ar telescopes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fixed primary (Large&amp;Che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work: </a:t>
            </a: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find one example of each specialized telescope in the list above and prepare a short description of what is different, why and how it is don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05C-C2BB-4E10-A03F-F31B1C1129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oculars, photo and video cameras, small telescopes – refr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mediate size telescopes – combined reflectors/refr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telescopes - refl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B8F-3FE5-4FE5-AF66-E2AEA4179E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tim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scope optical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er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op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ive op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cal components and coa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C2B-15B9-4623-B9FE-0227157709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quirements to pas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nd l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home work, turn it in or report in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lab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an exam: </a:t>
            </a:r>
            <a:r>
              <a:rPr b="0" i="1" lang="en-US" sz="3200" spc="-1" strike="noStrike">
                <a:solidFill>
                  <a:srgbClr val="000000"/>
                </a:solidFill>
                <a:latin typeface="HobbyHeadline"/>
              </a:rPr>
              <a:t>oral</a:t>
            </a:r>
            <a:r>
              <a:rPr b="0" lang="en-US" sz="3200" spc="-1" strike="noStrike">
                <a:solidFill>
                  <a:srgbClr val="000000"/>
                </a:solidFill>
                <a:latin typeface="HobbyHeadlin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HobbyHeadline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: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HobbyHeadline"/>
              </a:rPr>
              <a:t>Kitchin: Astrophysical Techniques, IoP, 4th e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20B-59E3-4FB8-B5BE-5C4656032F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we need telescop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0280" indent="-800280">
              <a:lnSpc>
                <a:spcPct val="90000"/>
              </a:lnSpc>
              <a:spcBef>
                <a:spcPts val="799"/>
              </a:spcBef>
              <a:buSzPct val="2057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k objects on the sk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00280" indent="-800280">
              <a:lnSpc>
                <a:spcPct val="90000"/>
              </a:lnSpc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 photons and create image of a region on the sky (FOV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00280" indent="-800280">
              <a:lnSpc>
                <a:spcPct val="90000"/>
              </a:lnSpc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ieve high angular resolu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00280" indent="-800280">
              <a:lnSpc>
                <a:spcPct val="90000"/>
              </a:lnSpc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ed multiple instr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151-ABA4-4E73-BBF9-B9FB97C00E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telescopes can help?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Dutch801 Rm BT"/>
              </a:rPr>
              <a:t>(Tracking object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169380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76520" y="64152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elentchuk 6m BTA, 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0800000">
            <a:off x="8610480" y="1890720"/>
            <a:ext cx="10375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© Istituto e Museo di Storia della Scien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scope mou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o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rman m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k m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lish m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-Azimu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72000" y="2361960"/>
            <a:ext cx="1523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4038480" y="3886200"/>
            <a:ext cx="20574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248520" y="4813200"/>
            <a:ext cx="2374920" cy="1781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19720" y="4495680"/>
            <a:ext cx="17524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1C8-AC17-47B8-B6CB-0495CB9AAA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lescope foc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3419640"/>
            <a:ext cx="4978440" cy="3057480"/>
            <a:chOff x="380880" y="3419640"/>
            <a:chExt cx="4978440" cy="3057480"/>
          </a:xfrm>
        </p:grpSpPr>
        <p:pic>
          <p:nvPicPr>
            <p:cNvPr id="118" name="" descr="German Equatorial mounting"/>
            <p:cNvPicPr/>
            <p:nvPr/>
          </p:nvPicPr>
          <p:blipFill>
            <a:blip r:embed="rId1"/>
            <a:stretch/>
          </p:blipFill>
          <p:spPr>
            <a:xfrm>
              <a:off x="1018800" y="3419640"/>
              <a:ext cx="317196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140000" y="3508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i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240" y="532476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ssegr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4760" y="3724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asmy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781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ud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733560" y="372456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742840" y="4867560"/>
              <a:ext cx="763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402912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964800" y="555300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6477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A44-7F70-40D9-9ABD-280FFA5EF3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lescope mounts: equatorial versus alt-azimu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y center location and flex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in alt-azimuth mount the support force passes precisely through the gravity center thus canceling any torque: very important for large and heavy telesco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view behavior while trac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In any focus located on the tube of an equatorially mounted telescope the field of view does not ro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320" y="2489040"/>
            <a:ext cx="1319040" cy="1791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[ ESO 3.6m Telescope]"/>
          <p:cNvPicPr/>
          <p:nvPr/>
        </p:nvPicPr>
        <p:blipFill>
          <a:blip r:embed="rId2"/>
          <a:stretch/>
        </p:blipFill>
        <p:spPr>
          <a:xfrm>
            <a:off x="76320" y="4572000"/>
            <a:ext cx="137448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3880" y="60958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O 3.6m La S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3040" y="21718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O V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AB9-E687-414C-8901-9837E584C2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me work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Look at the BWT and answer the following ques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1360" indent="-479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While tracking does one need to change the azimuthal veloc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1360" indent="-479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If yes, when the azimuthal velocity is larg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1360" indent="-479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How does the field of view rota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Look at the optical schem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coudé train of an equatorial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mounted telescope at fig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how the field of view ro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53200" y="304812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6BA-3AB6-4831-A437-367FC3385E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cking: offset gu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527200" y="2197080"/>
            <a:ext cx="3638520" cy="3741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90920" y="2514600"/>
            <a:ext cx="3504960" cy="3352680"/>
            <a:chOff x="2590920" y="2514600"/>
            <a:chExt cx="3504960" cy="3352680"/>
          </a:xfrm>
        </p:grpSpPr>
        <p:sp>
          <p:nvSpPr>
            <p:cNvPr id="143" name=""/>
            <p:cNvSpPr/>
            <p:nvPr/>
          </p:nvSpPr>
          <p:spPr>
            <a:xfrm>
              <a:off x="2590920" y="2514600"/>
              <a:ext cx="685800" cy="3352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2514600"/>
              <a:ext cx="685800" cy="3352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000320" y="3771720"/>
              <a:ext cx="685800" cy="3504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819520" y="3886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2743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lescope F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09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set guide pickup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54360" y="39747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2819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locations of the pickup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803560" y="33019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6095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lescope focal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27B-9C23-4293-A5C5-70862DB6EC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lecting phot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2125800"/>
          <a:ext cx="8991720" cy="4411440"/>
        </p:xfrm>
        <a:graphic>
          <a:graphicData uri="http://schemas.openxmlformats.org/drawingml/2006/table">
            <a:tbl>
              <a:tblPr/>
              <a:tblGrid>
                <a:gridCol w="1511280"/>
                <a:gridCol w="1114560"/>
                <a:gridCol w="2546280"/>
                <a:gridCol w="38196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utch801 Rm BT"/>
                        </a:rPr>
                        <a:t>Keck I &amp;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 10.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na Kea, Hawa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ed telescopes, interferome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utch801 Rm BT"/>
                        </a:rPr>
                        <a:t>Hobby-Eber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Fowlkes, Tex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ixed elevation, low cost spectroscopic telescop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utch801 Rm BT"/>
                        </a:rPr>
                        <a:t>Suba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na Kea, Hawa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elescope made in Jap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utch801 Rm BT"/>
                        </a:rPr>
                        <a:t>V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x 8.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ro Paranal,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O flagshi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utch801 Rm BT"/>
                        </a:rPr>
                        <a:t>Gem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 8.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na Kea, Hawaii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ro Pachon,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in 8-m telescopes in the Northern and Southern hemisphe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utch801 Rm BT"/>
                        </a:rPr>
                        <a:t>Magel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 6.5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Campanas,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in 6.5-m telescopes; also known as the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lter Baad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don Cla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scopes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utch801 Rm BT"/>
                        </a:rPr>
                        <a:t>M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Hopkins, US, A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ment of the 4.2-m Multi-Mirror Tele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Dutch801 Rm BT"/>
                        </a:rPr>
                        <a:t>B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zhny Arkhyz, 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ing limits, and the first large alt-azimuth tele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746-75D4-4438-97F0-F59F589F7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6:13:36Z</dcterms:created>
  <dc:creator>Nikolai Piskunov</dc:creator>
  <dc:description/>
  <dc:language>en-US</dc:language>
  <cp:lastModifiedBy>Nikolai Piskunov</cp:lastModifiedBy>
  <dcterms:modified xsi:type="dcterms:W3CDTF">2007-10-02T07:42:33Z</dcterms:modified>
  <cp:revision>49</cp:revision>
  <dc:subject/>
  <dc:title>Observational Astronomy</dc:title>
</cp:coreProperties>
</file>