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227F31-2185-43D0-9983-E7F66F903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620CD0-87DA-467E-B07E-C9FABA194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B21E3E-CC6F-4E8D-9FB5-94B65E47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54A4D5-BD11-4542-9DDA-1EEDBA905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1EF9D-DFBF-4E7E-98A0-282E48224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9B59B6-7DB0-4F1C-B2FA-C77B21C23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07537F-AD98-4505-963D-62139B75B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A07D9B-1EBC-4C47-9CEF-44A2B9A8D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AE6C92-65D8-40C0-81EC-94C8B368B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203EC3-670F-4D59-8F09-95B82BD69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838801-AC04-4982-B144-6700D9C47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64A998-5B76-4F74-85E7-EDBF32332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850466-947E-4F79-9E04-B69A055D3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ED392D-A58C-4621-BCF1-2E7E53F52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0BCC5B-BC42-4376-AEF9-1B6E83069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54CC4-2392-4CDD-AC38-F0D9A27FD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63253D-6F07-45EF-9E27-26F23040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A4E-5BE5-4BFD-8F1B-72EF084D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846-16B3-498C-9A42-844A7CA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281-C927-49EA-B30E-7F46648B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A11-35D0-4997-B3A3-A663262B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6F8C-7E04-4D72-86CB-168F1FF3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FC0-A84D-4BBA-A6B8-47CBD07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F71-8ABF-4E43-8465-CFB2B26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DAEC-4A69-4DDC-ABFF-E9A26AF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01C4-D382-4E8E-89D3-0CAAC00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1B3-166F-4106-BE2C-C6DEE464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C4D-4DEF-4360-AC96-39FDC17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3CB-9A5C-485D-A023-14D8D08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EE22-F6F3-46C1-B41C-A867D5D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5D5-705D-47E0-8217-C516CD4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541-5E77-491F-BE97-D3D653F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2FC0-1594-43EF-BAC3-C6931E97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8858-AAD2-4077-952A-68BC97F8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087-A2D6-4D66-9E7A-93F69E8F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561-B0FB-4D36-B765-CB15098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F1C-A85A-4409-9E24-C940454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A86-E5AD-4E52-B747-25B307DB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EB8-9490-4461-AC4A-3D8DA7F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5E9-DFFE-4E82-89AD-9CF0302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FEF-0FFF-4A8E-BD14-F998D44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44F-09B6-49FE-A712-DBBC5C26A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012-FA2D-4C79-89F2-5D9B40B760C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Etalon-1.png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en.wikipedia.org/wiki/Image:Etalon-2.pn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physik.uni-osnabrueck.de/kbetzler/sos/fabryperot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F09-DF51-4121-B447-9CDAFF0ADA8D}" type="datetime3">
              <a:rPr b="0" lang="en-US" sz="1400" spc="-1" strike="noStrike">
                <a:solidFill>
                  <a:srgbClr val="1c1c1c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4300-4B39-4A5C-8833-BF7754A95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Astr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hlorinar"/>
              </a:rPr>
              <a:t>SPECTROSCOPY</a:t>
            </a:r>
            <a:br>
              <a:rPr sz="5400"/>
            </a:br>
            <a:r>
              <a:rPr b="0" lang="en-US" sz="3600" spc="-1" strike="noStrike">
                <a:solidFill>
                  <a:srgbClr val="3333cc"/>
                </a:solidFill>
                <a:latin typeface="Chlorinar"/>
              </a:rPr>
              <a:t>and</a:t>
            </a:r>
            <a:br>
              <a:rPr sz="2400"/>
            </a:br>
            <a:r>
              <a:rPr b="0" lang="en-US" sz="5400" spc="-1" strike="noStrike">
                <a:solidFill>
                  <a:srgbClr val="3333cc"/>
                </a:solidFill>
                <a:latin typeface="Chlorinar"/>
              </a:rPr>
              <a:t>spectrometer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7242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tchin, pp. 310-37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926-FB20-4237-999F-039A494D1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tting some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om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ectrograph for the BWT is based on a 20 cm grating with a blaze angle of 66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º and 72 grooves per 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Find angular resolution of the grating at 4000 Å, 6000 Å and 8000 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Find optimal slit size with collimator length of 80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Take a realistic seeing (2”) and the corresponding entrance slit size. Compute the resolution R and the camera focal length to achieve 3 pixel sampling of a resolution element (15 micron pixel siz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Why is it hard to make high-resolution spectrometers for large telescopes? How the size of the primary mirror affects parameters and dimensions of a spectromet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16E-4213-4C8E-AEFC-F26D9D001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helle gives high resolving power (high orders) and high efficiency (no dark strip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al orders overlap (maximum reflection at blaze angl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der selection or cross-disperser is needed (e.g. grating or pr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wavelength of order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given by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a cross-disperser the whole spectrum is packed in a rectangular 2D format, perfect for an electronic det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1981080" y="4648320"/>
          <a:ext cx="349884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34988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9A1-CBFB-446E-9E01-0C1C308CC5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trograph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helle, white pupil (e.g. SALT-H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8" descr="http://www.dur.ac.uk/images/cfai/HRSSchematic.jpg"/>
          <p:cNvPicPr/>
          <p:nvPr/>
        </p:nvPicPr>
        <p:blipFill>
          <a:blip r:embed="rId1"/>
          <a:stretch/>
        </p:blipFill>
        <p:spPr>
          <a:xfrm>
            <a:off x="22320" y="2523960"/>
            <a:ext cx="9070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6C24-48D7-42C4-B935-287D8DE25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chelle focal plan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Picture 4" descr="UVES_middle_focal_plane_layout"/>
          <p:cNvPicPr/>
          <p:nvPr/>
        </p:nvPicPr>
        <p:blipFill>
          <a:blip r:embed="rId1"/>
          <a:srcRect l="8673" t="16721" r="16498" b="26806"/>
          <a:stretch/>
        </p:blipFill>
        <p:spPr>
          <a:xfrm>
            <a:off x="609480" y="213372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60FD-F102-4C8F-82DF-77B7657E52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e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s are cu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spacing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 F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era aberrations directly affect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 to calib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in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Picture 4" descr="FirstLight"/>
          <p:cNvPicPr/>
          <p:nvPr/>
        </p:nvPicPr>
        <p:blipFill>
          <a:blip r:embed="rId1"/>
          <a:srcRect l="6959" t="29764" r="7041" b="11767"/>
          <a:stretch/>
        </p:blipFill>
        <p:spPr>
          <a:xfrm>
            <a:off x="4648320" y="4519440"/>
            <a:ext cx="447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EC5-0981-43D2-A250-12AADFF17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spectroscopic instr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U instru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D image slices are re-arranged in 1D slit. E.g. SINFONI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object instrumen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 FORS, FL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5" descr="slicer_concept_new"/>
          <p:cNvPicPr/>
          <p:nvPr/>
        </p:nvPicPr>
        <p:blipFill>
          <a:blip r:embed="rId1"/>
          <a:stretch/>
        </p:blipFill>
        <p:spPr>
          <a:xfrm>
            <a:off x="3971880" y="3200400"/>
            <a:ext cx="463860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ves spectra"/>
          <p:cNvPicPr/>
          <p:nvPr/>
        </p:nvPicPr>
        <p:blipFill>
          <a:blip r:embed="rId2"/>
          <a:srcRect l="0" t="9147" r="0" b="42096"/>
          <a:stretch/>
        </p:blipFill>
        <p:spPr>
          <a:xfrm>
            <a:off x="6172200" y="5229360"/>
            <a:ext cx="28954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9EA4-2AC1-495B-A796-77F27CCFC3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bry-Perot interfero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solution is determ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same way as for a g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/Ref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 depends o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atio betwee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 and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ea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alled </a:t>
            </a:r>
            <a:r>
              <a:rPr b="0" i="1" lang="en-US" sz="4000" spc="-1" strike="noStrike">
                <a:solidFill>
                  <a:srgbClr val="000000"/>
                </a:solidFill>
                <a:latin typeface="Perpetua"/>
              </a:rPr>
              <a:t>fines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-P is often used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able fil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5" descr="A Fabry-Perot etalon. Light enters the etalon and undergoes multiple internal reflection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262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The transmission of an etalon as a function of wavelength. A high-finesse etalon (red line) shows sharper peaks and lower transmission minima than a low-finesse etalon (blue)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248000"/>
            <a:ext cx="3333960" cy="2381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867280" y="588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om Casual"/>
              </a:rPr>
              <a:t>Finesse </a:t>
            </a:r>
            <a:r>
              <a:rPr b="0" lang="en-US" sz="1800" spc="-1" strike="noStrike">
                <a:solidFill>
                  <a:srgbClr val="ff0000"/>
                </a:solidFill>
                <a:latin typeface="Dom Casu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Dom Casu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Dom Casu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523880" y="457200"/>
            <a:ext cx="609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gency FB"/>
                <a:hlinkClick r:id="rId5"/>
              </a:rPr>
              <a:t>http://www.physik.uni-osnabrueck.de/kbetzler/sos/fabryperot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6277-B1DB-490B-BB16-749F6D084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329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ectroscopic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1960" y="213372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purposes require different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spectroscopic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trophot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w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ng slit, high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igh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troscopic observations are characterized by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ersion/spectral resolu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pectral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B760-CB86-43E8-984A-11E56B50F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trophot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 goal: search for objects with specific spectr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1: objective prism, telescope "sees" the source through a prism, therefore each point source looks like a smal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2: narrow band filters for given spectral features. Often such filters have the possibility to change central wavelength by changing temperature/pressure. There is no sl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5EF-4054-4C23-9144-084C9B65E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t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erence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ing formul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301920" y="5613480"/>
          <a:ext cx="472464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920" y="5613480"/>
                    <a:ext cx="47246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5"/>
          <p:cNvGrpSpPr/>
          <p:nvPr/>
        </p:nvGrpSpPr>
        <p:grpSpPr>
          <a:xfrm>
            <a:off x="2730600" y="419040"/>
            <a:ext cx="6032160" cy="5245200"/>
            <a:chOff x="2730600" y="419040"/>
            <a:chExt cx="6032160" cy="5245200"/>
          </a:xfrm>
        </p:grpSpPr>
        <p:sp>
          <p:nvSpPr>
            <p:cNvPr id="123" name="Line 6"/>
            <p:cNvSpPr/>
            <p:nvPr/>
          </p:nvSpPr>
          <p:spPr>
            <a:xfrm>
              <a:off x="2985120" y="5054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8695800" y="5054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398200" y="5283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6" name="Group 9"/>
            <p:cNvGrpSpPr/>
            <p:nvPr/>
          </p:nvGrpSpPr>
          <p:grpSpPr>
            <a:xfrm>
              <a:off x="7730640" y="2082960"/>
              <a:ext cx="723240" cy="494640"/>
              <a:chOff x="7730640" y="2082960"/>
              <a:chExt cx="723240" cy="49464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7743600" y="23493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8453880" y="23493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12"/>
              <p:cNvSpPr/>
              <p:nvPr/>
            </p:nvSpPr>
            <p:spPr>
              <a:xfrm>
                <a:off x="7730640" y="2438280"/>
                <a:ext cx="72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Text Box 13"/>
              <p:cNvSpPr/>
              <p:nvPr/>
            </p:nvSpPr>
            <p:spPr>
              <a:xfrm>
                <a:off x="7945200" y="2082960"/>
                <a:ext cx="32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" name="Group 14"/>
            <p:cNvGrpSpPr/>
            <p:nvPr/>
          </p:nvGrpSpPr>
          <p:grpSpPr>
            <a:xfrm>
              <a:off x="3708360" y="3479040"/>
              <a:ext cx="913680" cy="1474920"/>
              <a:chOff x="3708360" y="3479040"/>
              <a:chExt cx="913680" cy="1474920"/>
            </a:xfrm>
          </p:grpSpPr>
          <p:sp>
            <p:nvSpPr>
              <p:cNvPr id="132" name="Line 15"/>
              <p:cNvSpPr/>
              <p:nvPr/>
            </p:nvSpPr>
            <p:spPr>
              <a:xfrm>
                <a:off x="3749040" y="3759120"/>
                <a:ext cx="48204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Text Box 16"/>
              <p:cNvSpPr/>
              <p:nvPr/>
            </p:nvSpPr>
            <p:spPr>
              <a:xfrm rot="3994200">
                <a:off x="3441240" y="403236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laze angl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34" name="Picture 17" descr="gratings"/>
            <p:cNvPicPr/>
            <p:nvPr/>
          </p:nvPicPr>
          <p:blipFill>
            <a:blip r:embed="rId3"/>
            <a:stretch/>
          </p:blipFill>
          <p:spPr>
            <a:xfrm>
              <a:off x="2730600" y="419040"/>
              <a:ext cx="603216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Line 18"/>
            <p:cNvSpPr/>
            <p:nvPr/>
          </p:nvSpPr>
          <p:spPr>
            <a:xfrm>
              <a:off x="2985120" y="5334120"/>
              <a:ext cx="571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AutoShape 19"/>
          <p:cNvSpPr/>
          <p:nvPr/>
        </p:nvSpPr>
        <p:spPr>
          <a:xfrm flipH="1">
            <a:off x="3886200" y="228600"/>
            <a:ext cx="1752480" cy="914400"/>
          </a:xfrm>
          <a:prstGeom prst="wedgeRoundRectCallout">
            <a:avLst>
              <a:gd name="adj1" fmla="val 2898"/>
              <a:gd name="adj2" fmla="val 195138"/>
              <a:gd name="adj3" fmla="val 16667"/>
            </a:avLst>
          </a:prstGeom>
          <a:solidFill>
            <a:srgbClr val="85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3581280" y="304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ntional gra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7391520" y="3429000"/>
            <a:ext cx="1218960" cy="762120"/>
          </a:xfrm>
          <a:prstGeom prst="wedgeRoundRectCallout">
            <a:avLst>
              <a:gd name="adj1" fmla="val -43518"/>
              <a:gd name="adj2" fmla="val 107916"/>
              <a:gd name="adj3" fmla="val 16667"/>
            </a:avLst>
          </a:prstGeom>
          <a:solidFill>
            <a:srgbClr val="85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helle gra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2"/>
          <p:cNvSpPr/>
          <p:nvPr/>
        </p:nvSpPr>
        <p:spPr>
          <a:xfrm rot="1872600">
            <a:off x="3428280" y="603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3"/>
          <p:cNvSpPr/>
          <p:nvPr/>
        </p:nvSpPr>
        <p:spPr>
          <a:xfrm rot="1872600">
            <a:off x="3682440" y="5957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4"/>
          <p:cNvSpPr/>
          <p:nvPr/>
        </p:nvSpPr>
        <p:spPr>
          <a:xfrm rot="1872600">
            <a:off x="3964680" y="60289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fer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B7B-D7E9-456E-A7FB-52F78382BE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it of math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for angular dispersion is found by differentiating the grating eq.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 dispersion is readily obtained for a given focal 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238480" y="3048120"/>
          <a:ext cx="276228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3048120"/>
                    <a:ext cx="276228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2413080" y="5491080"/>
          <a:ext cx="2388960" cy="10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3080" y="5491080"/>
                    <a:ext cx="23889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6"/>
          <p:cNvSpPr/>
          <p:nvPr/>
        </p:nvSpPr>
        <p:spPr>
          <a:xfrm>
            <a:off x="5257800" y="38750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gular disp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448240" y="5805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ar disp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340-28FF-455B-8CF7-92A44BC4D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some more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017440"/>
            <a:ext cx="79642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ular resolution. Think of a grating as a mirror, its diffraction angle is given b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ombining it with the angular dispersion equa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Perpetua"/>
              </a:rPr>
              <a:t>Resolving power depends in the number of illuminated groov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14600" y="2970360"/>
          <a:ext cx="32767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970360"/>
                    <a:ext cx="3276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2587680" y="4579920"/>
          <a:ext cx="276552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7680" y="4579920"/>
                    <a:ext cx="27655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AutoShape 6"/>
          <p:cNvSpPr/>
          <p:nvPr/>
        </p:nvSpPr>
        <p:spPr>
          <a:xfrm rot="10800000">
            <a:off x="4749480" y="4571640"/>
            <a:ext cx="609480" cy="1066680"/>
          </a:xfrm>
          <a:prstGeom prst="wedgeEllipseCallout">
            <a:avLst>
              <a:gd name="adj1" fmla="val -106250"/>
              <a:gd name="adj2" fmla="val 41513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702400" y="420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5354640" y="4863960"/>
          <a:ext cx="131292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4640" y="4863960"/>
                    <a:ext cx="13129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AutoShape 9"/>
          <p:cNvSpPr/>
          <p:nvPr/>
        </p:nvSpPr>
        <p:spPr>
          <a:xfrm>
            <a:off x="3886200" y="2959200"/>
            <a:ext cx="1828800" cy="672840"/>
          </a:xfrm>
          <a:prstGeom prst="wedgeEllipseCallout">
            <a:avLst>
              <a:gd name="adj1" fmla="val 91495"/>
              <a:gd name="adj2" fmla="val 9199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515280" y="302256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ed size of the gra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1384200" y="5753160"/>
            <a:ext cx="2438640" cy="457200"/>
          </a:xfrm>
          <a:prstGeom prst="wedgeRoundRectCallout">
            <a:avLst>
              <a:gd name="adj1" fmla="val 43750"/>
              <a:gd name="adj2" fmla="val -146527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B24-9C31-4FA7-B537-6F3156357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e spectral r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ree spectral range (FSR) of a diffraction grating is defined as the spectral interval in a given order which does not overlap with the wavelengths in adjacent ord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914400" y="6172200"/>
            <a:ext cx="426708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99736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1752480" y="60958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1523880" y="54864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2235240" y="472428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752480" y="4572000"/>
            <a:ext cx="124488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2413080" y="4254480"/>
            <a:ext cx="584280" cy="1905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2057400" y="5410080"/>
            <a:ext cx="9270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1714680" y="4229280"/>
            <a:ext cx="723600" cy="380880"/>
          </a:xfrm>
          <a:custGeom>
            <a:avLst/>
            <a:gdLst/>
            <a:ahLst/>
            <a:rect l="l" t="t" r="r" b="b"/>
            <a:pathLst>
              <a:path w="536" h="240">
                <a:moveTo>
                  <a:pt x="0" y="240"/>
                </a:moveTo>
                <a:cubicBezTo>
                  <a:pt x="24" y="203"/>
                  <a:pt x="60" y="196"/>
                  <a:pt x="96" y="176"/>
                </a:cubicBezTo>
                <a:cubicBezTo>
                  <a:pt x="113" y="167"/>
                  <a:pt x="144" y="144"/>
                  <a:pt x="144" y="144"/>
                </a:cubicBezTo>
                <a:cubicBezTo>
                  <a:pt x="169" y="106"/>
                  <a:pt x="214" y="102"/>
                  <a:pt x="256" y="88"/>
                </a:cubicBezTo>
                <a:cubicBezTo>
                  <a:pt x="291" y="76"/>
                  <a:pt x="319" y="54"/>
                  <a:pt x="352" y="40"/>
                </a:cubicBezTo>
                <a:cubicBezTo>
                  <a:pt x="371" y="32"/>
                  <a:pt x="416" y="28"/>
                  <a:pt x="432" y="24"/>
                </a:cubicBezTo>
                <a:cubicBezTo>
                  <a:pt x="471" y="14"/>
                  <a:pt x="494" y="0"/>
                  <a:pt x="536" y="0"/>
                </a:cubicBezTo>
              </a:path>
            </a:pathLst>
          </a:cu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13"/>
          <p:cNvSpPr/>
          <p:nvPr/>
        </p:nvSpPr>
        <p:spPr>
          <a:xfrm>
            <a:off x="1486080" y="4749840"/>
            <a:ext cx="787320" cy="749160"/>
          </a:xfrm>
          <a:custGeom>
            <a:avLst/>
            <a:gdLst/>
            <a:ahLst/>
            <a:rect l="l" t="t" r="r" b="b"/>
            <a:pathLst>
              <a:path w="400" h="472">
                <a:moveTo>
                  <a:pt x="0" y="472"/>
                </a:moveTo>
                <a:cubicBezTo>
                  <a:pt x="11" y="405"/>
                  <a:pt x="27" y="359"/>
                  <a:pt x="64" y="304"/>
                </a:cubicBezTo>
                <a:cubicBezTo>
                  <a:pt x="69" y="296"/>
                  <a:pt x="72" y="285"/>
                  <a:pt x="80" y="280"/>
                </a:cubicBezTo>
                <a:cubicBezTo>
                  <a:pt x="113" y="258"/>
                  <a:pt x="97" y="271"/>
                  <a:pt x="128" y="240"/>
                </a:cubicBezTo>
                <a:cubicBezTo>
                  <a:pt x="139" y="208"/>
                  <a:pt x="148" y="195"/>
                  <a:pt x="176" y="176"/>
                </a:cubicBezTo>
                <a:cubicBezTo>
                  <a:pt x="200" y="105"/>
                  <a:pt x="286" y="71"/>
                  <a:pt x="344" y="32"/>
                </a:cubicBezTo>
                <a:cubicBezTo>
                  <a:pt x="360" y="21"/>
                  <a:pt x="380" y="0"/>
                  <a:pt x="400" y="0"/>
                </a:cubicBezTo>
              </a:path>
            </a:pathLst>
          </a:custGeom>
          <a:noFill/>
          <a:ln w="19044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1752480" y="5359320"/>
            <a:ext cx="304920" cy="787320"/>
          </a:xfrm>
          <a:custGeom>
            <a:avLst/>
            <a:gdLst/>
            <a:ahLst/>
            <a:rect l="l" t="t" r="r" b="b"/>
            <a:pathLst>
              <a:path w="160" h="352">
                <a:moveTo>
                  <a:pt x="0" y="352"/>
                </a:moveTo>
                <a:cubicBezTo>
                  <a:pt x="5" y="294"/>
                  <a:pt x="0" y="240"/>
                  <a:pt x="32" y="192"/>
                </a:cubicBezTo>
                <a:cubicBezTo>
                  <a:pt x="44" y="145"/>
                  <a:pt x="69" y="104"/>
                  <a:pt x="96" y="64"/>
                </a:cubicBezTo>
                <a:cubicBezTo>
                  <a:pt x="107" y="48"/>
                  <a:pt x="144" y="32"/>
                  <a:pt x="144" y="32"/>
                </a:cubicBezTo>
                <a:cubicBezTo>
                  <a:pt x="153" y="4"/>
                  <a:pt x="146" y="14"/>
                  <a:pt x="160" y="0"/>
                </a:cubicBezTo>
              </a:path>
            </a:pathLst>
          </a:custGeom>
          <a:noFill/>
          <a:ln w="190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4"/>
          <p:cNvSpPr/>
          <p:nvPr/>
        </p:nvSpPr>
        <p:spPr>
          <a:xfrm rot="19754400">
            <a:off x="1168920" y="3974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 m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25"/>
          <p:cNvSpPr/>
          <p:nvPr/>
        </p:nvSpPr>
        <p:spPr>
          <a:xfrm rot="19030200">
            <a:off x="923040" y="47048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 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7360" y="5715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 m+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Object 27"/>
          <p:cNvGraphicFramePr/>
          <p:nvPr/>
        </p:nvGraphicFramePr>
        <p:xfrm>
          <a:off x="3352680" y="3718080"/>
          <a:ext cx="5139000" cy="19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718080"/>
                    <a:ext cx="513900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28"/>
          <p:cNvSpPr/>
          <p:nvPr/>
        </p:nvSpPr>
        <p:spPr>
          <a:xfrm>
            <a:off x="6095880" y="57913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opularCafeAA"/>
              </a:rPr>
              <a:t>For a prism FSR is the whole sp. rang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1BAF-4C83-43A1-BF9B-8E00B9B8C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ting spectrom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7" name="Group 35"/>
          <p:cNvGrpSpPr/>
          <p:nvPr/>
        </p:nvGrpSpPr>
        <p:grpSpPr>
          <a:xfrm>
            <a:off x="1447920" y="2133720"/>
            <a:ext cx="5883480" cy="4740120"/>
            <a:chOff x="1447920" y="2133720"/>
            <a:chExt cx="5883480" cy="4740120"/>
          </a:xfrm>
        </p:grpSpPr>
        <p:sp>
          <p:nvSpPr>
            <p:cNvPr id="188" name="Oval 4"/>
            <p:cNvSpPr/>
            <p:nvPr/>
          </p:nvSpPr>
          <p:spPr>
            <a:xfrm>
              <a:off x="3449880" y="2609280"/>
              <a:ext cx="107280" cy="1187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2018880" y="2609280"/>
              <a:ext cx="1484640" cy="59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2018880" y="3194640"/>
              <a:ext cx="1484640" cy="59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3503520" y="2609280"/>
              <a:ext cx="18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>
              <a:off x="3503520" y="3777480"/>
              <a:ext cx="32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 rot="2365200">
              <a:off x="5085720" y="3041640"/>
              <a:ext cx="2069280" cy="16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 flipH="1">
              <a:off x="3768840" y="2609280"/>
              <a:ext cx="1591920" cy="162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 flipH="1">
              <a:off x="5156640" y="3753360"/>
              <a:ext cx="1591920" cy="162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 flipH="1">
              <a:off x="3876120" y="2609280"/>
              <a:ext cx="1484280" cy="17290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 flipH="1">
              <a:off x="5263920" y="3771360"/>
              <a:ext cx="1484640" cy="17290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 flipH="1">
              <a:off x="3981240" y="2609280"/>
              <a:ext cx="1379520" cy="1836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 flipH="1">
              <a:off x="5387040" y="3753360"/>
              <a:ext cx="1379520" cy="1836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 rot="18564600">
              <a:off x="4478040" y="3836160"/>
              <a:ext cx="160200" cy="2176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 flipH="1">
              <a:off x="3255480" y="4243680"/>
              <a:ext cx="513360" cy="150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 flipH="1">
              <a:off x="3271320" y="5431320"/>
              <a:ext cx="1814040" cy="30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 flipH="1">
              <a:off x="3350520" y="4402080"/>
              <a:ext cx="501480" cy="14439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3"/>
            <p:cNvSpPr/>
            <p:nvPr/>
          </p:nvSpPr>
          <p:spPr>
            <a:xfrm flipH="1">
              <a:off x="3350880" y="5544360"/>
              <a:ext cx="1902960" cy="3016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24"/>
            <p:cNvSpPr/>
            <p:nvPr/>
          </p:nvSpPr>
          <p:spPr>
            <a:xfrm flipH="1">
              <a:off x="3445920" y="4485600"/>
              <a:ext cx="523080" cy="145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25"/>
            <p:cNvSpPr/>
            <p:nvPr/>
          </p:nvSpPr>
          <p:spPr>
            <a:xfrm flipH="1">
              <a:off x="3446280" y="5596200"/>
              <a:ext cx="1887120" cy="344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 rot="2531400">
              <a:off x="3065400" y="5909400"/>
              <a:ext cx="666000" cy="9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27"/>
            <p:cNvSpPr/>
            <p:nvPr/>
          </p:nvSpPr>
          <p:spPr>
            <a:xfrm rot="2377200">
              <a:off x="5867640" y="2711880"/>
              <a:ext cx="15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atin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29"/>
            <p:cNvSpPr/>
            <p:nvPr/>
          </p:nvSpPr>
          <p:spPr>
            <a:xfrm rot="2377200">
              <a:off x="4331520" y="4713480"/>
              <a:ext cx="152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0"/>
            <p:cNvSpPr/>
            <p:nvPr/>
          </p:nvSpPr>
          <p:spPr>
            <a:xfrm rot="2377200">
              <a:off x="2614680" y="6061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tecto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1"/>
            <p:cNvSpPr/>
            <p:nvPr/>
          </p:nvSpPr>
          <p:spPr>
            <a:xfrm>
              <a:off x="2970000" y="213372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llimato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2"/>
            <p:cNvSpPr/>
            <p:nvPr/>
          </p:nvSpPr>
          <p:spPr>
            <a:xfrm>
              <a:off x="1447920" y="3198600"/>
              <a:ext cx="66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i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2018880" y="279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 flipV="1">
              <a:off x="2018880" y="3196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1E4-0008-458B-A0E5-8F7E1B82A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world: the seeing and the pixel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1815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ular slit size as seen by the grating is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       is the focal length of the collimator and </a:t>
            </a:r>
            <a:r>
              <a:rPr b="0" i="1" lang="en-US" sz="3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linear width of the slit. Grating equation connects this to the angular resolution element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try to match this to the angular resolution of the grating we end up with too narrow sl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we select the slit, translate this to angular resolution and select the camera focal length to match the pixel sca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3505320" y="2070000"/>
          <a:ext cx="198108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070000"/>
                    <a:ext cx="19810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336760" y="2546280"/>
          <a:ext cx="57168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2546280"/>
                    <a:ext cx="5716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1828800" y="3611520"/>
          <a:ext cx="5410080" cy="15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611520"/>
                    <a:ext cx="54100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6:13:36Z</dcterms:created>
  <dc:creator>Nikolai Piskunov</dc:creator>
  <dc:description/>
  <dc:language>en-US</dc:language>
  <cp:lastModifiedBy>nikolai</cp:lastModifiedBy>
  <dcterms:modified xsi:type="dcterms:W3CDTF">2011-10-31T12:03:04Z</dcterms:modified>
  <cp:revision>166</cp:revision>
  <dc:subject/>
  <dc:title>Observational Astronomy</dc:title>
</cp:coreProperties>
</file>