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.gif" ContentType="image/gif"/>
  <Override PartName="/ppt/media/image9.jpeg" ContentType="image/jpeg"/>
  <Override PartName="/ppt/media/image11.jpeg" ContentType="image/jpeg"/>
  <Override PartName="/ppt/media/image23.wmf" ContentType="image/x-wmf"/>
  <Override PartName="/ppt/media/image12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jpeg" ContentType="image/jpeg"/>
  <Override PartName="/ppt/media/image1.png" ContentType="image/png"/>
  <Override PartName="/ppt/media/image13.png" ContentType="image/png"/>
  <Override PartName="/ppt/media/image19.jpeg" ContentType="image/jpeg"/>
  <Override PartName="/ppt/media/image6.wmf" ContentType="image/x-wmf"/>
  <Override PartName="/ppt/media/image7.png" ContentType="image/png"/>
  <Override PartName="/ppt/media/image4.gif" ContentType="image/gif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E129-6A46-4D6D-922F-F883C583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76C-49EC-453D-98E8-9AE26CD3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BA0-08E9-45F1-A253-30C3AECD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A40-921A-4AE4-AEAF-DBA4964E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ABBB-4080-46F3-ADD2-61DE2B9E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5D90-B06F-468F-83FF-7ED8B089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08F8-1201-48F7-AE6F-0B54296B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43CE-24AD-4024-8854-57BFB0B9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BE43-7866-4DC7-AA22-363112BA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6C84-159E-4D6A-8C9E-4D618278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1F12-A6DA-4A8C-AAC6-F3F351D9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DA7-A3E3-46C1-9CB4-9CE136E8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42B8-05C6-480E-BEFC-618433CE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F97B-759D-43CC-B9ED-926D9ECA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19FA-5BE7-4346-8D43-A71B7C2E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F47B-9734-434D-B570-3E8F350D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6678-A598-4028-A6BF-28C949B3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8AA-1739-406F-9D6F-20B903F7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C17-FD56-4637-8DBA-0782FEA9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519-8DA6-4D0E-80CA-2ADB7461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FA1B-6984-4970-8960-03ACE7BA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1EC-EFDF-4771-87C4-921A4AE0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7C4-A96C-4278-943C-F6990A98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602-9EF5-4C26-892E-C18E0D11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17F3-2B5E-4AF2-A7F3-9061D13343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2BB8-4139-4699-B0F5-D3C1D069FD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al Astrono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stellar"/>
              </a:rPr>
              <a:t>TELESCOPES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gency FB"/>
              </a:rPr>
              <a:t>Kitchin pp.44-88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49F0-A6D7-4D4A-B63D-A98565722E6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2834505-1BEB-4838-8647-F209242C61AB}" type="datetime3">
              <a:rPr lang="en-US"/>
              <a:t>July 30, 20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rror manufactu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66680" y="1830240"/>
            <a:ext cx="7467840" cy="494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0C01-8739-4C21-9263-BABFD7944F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at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47560" y="22860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rro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uminum with SiO on the t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lver-based coatings. Needs coating to prevent mechanical damage during wash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nses: Mg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10360" y="4343400"/>
            <a:ext cx="2857320" cy="192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FAC-6597-4993-9E56-A1B63425C8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0440" y="174600"/>
            <a:ext cx="8783640" cy="6553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188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7650000" y="6062760"/>
          <a:ext cx="1312920" cy="7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50000" y="6062760"/>
                    <a:ext cx="13129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7" name=""/>
          <p:cNvGrpSpPr/>
          <p:nvPr/>
        </p:nvGrpSpPr>
        <p:grpSpPr>
          <a:xfrm>
            <a:off x="479520" y="3835440"/>
            <a:ext cx="8102520" cy="2720160"/>
            <a:chOff x="479520" y="3835440"/>
            <a:chExt cx="8102520" cy="2720160"/>
          </a:xfrm>
        </p:grpSpPr>
        <p:sp>
          <p:nvSpPr>
            <p:cNvPr id="158" name=""/>
            <p:cNvSpPr/>
            <p:nvPr/>
          </p:nvSpPr>
          <p:spPr>
            <a:xfrm>
              <a:off x="5416560" y="5867280"/>
              <a:ext cx="28130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33800" y="3835440"/>
              <a:ext cx="667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Hard Gold coating results (from 0.7 µm to 25 µ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4"/>
            <a:srcRect l="0" t="0" r="0" b="76317"/>
            <a:stretch/>
          </p:blipFill>
          <p:spPr>
            <a:xfrm>
              <a:off x="492120" y="4216320"/>
              <a:ext cx="808992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5"/>
            <a:srcRect l="0" t="82908" r="0" b="0"/>
            <a:stretch/>
          </p:blipFill>
          <p:spPr>
            <a:xfrm>
              <a:off x="479520" y="5402160"/>
              <a:ext cx="808992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488040" y="609588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avelength (µ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95360" y="320760"/>
            <a:ext cx="8148600" cy="3187080"/>
            <a:chOff x="495360" y="320760"/>
            <a:chExt cx="8148600" cy="3187080"/>
          </a:xfrm>
        </p:grpSpPr>
        <p:sp>
          <p:nvSpPr>
            <p:cNvPr id="164" name=""/>
            <p:cNvSpPr/>
            <p:nvPr/>
          </p:nvSpPr>
          <p:spPr>
            <a:xfrm>
              <a:off x="800280" y="320760"/>
              <a:ext cx="761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AMPLES OF OPTICAL COA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nhanced Silver coating results (from 350 nm to 800 n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6"/>
            <a:srcRect l="0" t="0" r="0" b="77117"/>
            <a:stretch/>
          </p:blipFill>
          <p:spPr>
            <a:xfrm>
              <a:off x="498600" y="1066680"/>
              <a:ext cx="814536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7"/>
            <a:srcRect l="0" t="78480" r="0" b="3543"/>
            <a:stretch/>
          </p:blipFill>
          <p:spPr>
            <a:xfrm>
              <a:off x="495360" y="2286000"/>
              <a:ext cx="81453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487320" y="3048120"/>
              <a:ext cx="232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avelength (n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 rot="10800000">
            <a:off x="457200" y="4495320"/>
            <a:ext cx="45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l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0800000">
            <a:off x="457200" y="1371240"/>
            <a:ext cx="45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l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788-75C3-4CA5-A18A-E7A6985893B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 Spread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F is the intensity distribution in the focal plane produced by a point sour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PSF (Bessel func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Airy function"/>
          <p:cNvPicPr/>
          <p:nvPr/>
        </p:nvPicPr>
        <p:blipFill>
          <a:blip r:embed="rId1"/>
          <a:stretch/>
        </p:blipFill>
        <p:spPr>
          <a:xfrm>
            <a:off x="2781360" y="3971880"/>
            <a:ext cx="2857320" cy="22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C84-D640-4DCC-8EF1-F72A1AA71F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e op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05280" y="198108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thin mirrors are shaped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system: VLT mirror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.2m in diame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only 18 cm thi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160" y="3770280"/>
            <a:ext cx="4111560" cy="2782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191120" y="3124080"/>
            <a:ext cx="2608200" cy="3443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334120" y="12600"/>
            <a:ext cx="3797280" cy="2490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794640" y="3211560"/>
            <a:ext cx="243828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nsate for thermal and orientation disto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 loop operation during adju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 frequency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 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LT: 150 actu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26D-ACC6-4BAE-881E-123B539426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me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Condensed"/>
              </a:rPr>
              <a:t>Look at the IDL program I used to illustrate spherical and parabolic mirrors. Try to compute ray-tracing for non-axial beam for a parabo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Condensed"/>
              </a:rPr>
              <a:t>Extend the calculations to an RC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for the brave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581280" y="4127400"/>
          <a:ext cx="370224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4127400"/>
                    <a:ext cx="37022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3962520" y="55371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curv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60958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conic constant: &lt;-1 hyperbola, -1 para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8B5-C16E-4A3C-B9E9-93A58740B4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time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240" y="3123720"/>
            <a:ext cx="468468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ace Telescopes (Oleg Kochukhov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CF0-2DE1-4BEA-A1A5-CB8F78FB79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cal Sche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erical mirrors cannot focus light properly due to spherical aberr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[Spot diagram - spherical aberration]"/>
          <p:cNvPicPr/>
          <p:nvPr/>
        </p:nvPicPr>
        <p:blipFill>
          <a:blip r:embed="rId1"/>
          <a:stretch/>
        </p:blipFill>
        <p:spPr>
          <a:xfrm>
            <a:off x="380880" y="4876920"/>
            <a:ext cx="1533600" cy="165708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2386080" y="2895480"/>
            <a:ext cx="4371840" cy="3657600"/>
            <a:chOff x="2386080" y="2895480"/>
            <a:chExt cx="4371840" cy="36576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2386080" y="2895480"/>
              <a:ext cx="43718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267080" y="464832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30120" y="4915080"/>
            <a:ext cx="1600200" cy="1600200"/>
          </a:xfrm>
          <a:prstGeom prst="wedgeEllipseCallout">
            <a:avLst>
              <a:gd name="adj1" fmla="val 260712"/>
              <a:gd name="adj2" fmla="val -674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3A89-292C-418F-8603-CBA8D9402D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cal Sche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a single parabola can produce perfect image on the optical axis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f-axis images suffer from co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[Spot diagram - coma]"/>
          <p:cNvPicPr/>
          <p:nvPr/>
        </p:nvPicPr>
        <p:blipFill>
          <a:blip r:embed="rId1"/>
          <a:stretch/>
        </p:blipFill>
        <p:spPr>
          <a:xfrm>
            <a:off x="304920" y="4800600"/>
            <a:ext cx="1152360" cy="191448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1617120" y="4400280"/>
            <a:ext cx="1833480" cy="1485720"/>
            <a:chOff x="1617120" y="4400280"/>
            <a:chExt cx="1833480" cy="1485720"/>
          </a:xfrm>
        </p:grpSpPr>
        <p:sp>
          <p:nvSpPr>
            <p:cNvPr id="112" name=""/>
            <p:cNvSpPr/>
            <p:nvPr/>
          </p:nvSpPr>
          <p:spPr>
            <a:xfrm flipV="1">
              <a:off x="1797120" y="4878720"/>
              <a:ext cx="1510920" cy="532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939680" y="5352840"/>
              <a:ext cx="151092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617120" y="4400280"/>
              <a:ext cx="151056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386080" y="2819520"/>
            <a:ext cx="4371840" cy="3657600"/>
            <a:chOff x="2386080" y="2819520"/>
            <a:chExt cx="4371840" cy="365760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2386080" y="2819520"/>
              <a:ext cx="43718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267080" y="4584600"/>
              <a:ext cx="5335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200-19F0-42E5-A9B6-D7E17BED93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itchey-Chrétien telesco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228960" y="2057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bolic primary and hyperbolic secondary solve main aberration problems (spheric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coma) in a rather large field of view (few arcminutes) in Cassegrain foc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29280" y="2009880"/>
            <a:ext cx="4914720" cy="48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E29-2496-439E-AB87-D6FE612842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362320" y="3398760"/>
            <a:ext cx="5138640" cy="307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C design: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promises &amp; too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erage image quality (aber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vature of the focal plane (trade with Fo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of view of up to 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943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TA 4m IR survey tele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VISTA solid model"/>
          <p:cNvPicPr/>
          <p:nvPr/>
        </p:nvPicPr>
        <p:blipFill>
          <a:blip r:embed="rId2"/>
          <a:stretch/>
        </p:blipFill>
        <p:spPr>
          <a:xfrm>
            <a:off x="0" y="3552840"/>
            <a:ext cx="2581200" cy="33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6C3-A26C-4504-A21F-5CAD55194E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midt-Casseg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C provides very good image quality in a relatively smal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large FoV (up to 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s need Schmidt-Cassegrain is the preferred design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42960" y="4295880"/>
            <a:ext cx="5467320" cy="2485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6019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erical 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981080" y="586692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ction 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438600" y="4838760"/>
            <a:ext cx="6858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023-456C-4C97-9552-D08F35A56B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vely Gregorian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ave secondary after the primary focu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15880" y="2590920"/>
            <a:ext cx="6585120" cy="3948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rot="10800000">
            <a:off x="762120" y="3047760"/>
            <a:ext cx="4546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rtesy of MPI Pots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3F06-C1EE-404D-BC3A-AFD0DFC473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te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thermal expansion: zerodur &amp; sit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2847960"/>
            <a:ext cx="3809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mean linear coefficient of thermal expansion within temperature ran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-6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º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to +60º С is &lt;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entury Schoolbook"/>
              </a:rPr>
              <a:t>-8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cm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º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entury Schoolbook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53514" r="0" b="0"/>
          <a:stretch/>
        </p:blipFill>
        <p:spPr>
          <a:xfrm>
            <a:off x="4152960" y="4457880"/>
            <a:ext cx="4838760" cy="1714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41" name=""/>
          <p:cNvSpPr/>
          <p:nvPr/>
        </p:nvSpPr>
        <p:spPr>
          <a:xfrm>
            <a:off x="609480" y="54864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tro-sitall blank at LZO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VST, VISTA, SALT, LAMOST, OWL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6248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rodur VLT primary at REO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3809880" cy="28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59F-4F07-481E-AC3A-C923417D87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mate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licon Carb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thermal expa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ot as good as gla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y l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y hard, keep the shape w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 to make in large pie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gile, hard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867280" y="135000"/>
            <a:ext cx="3124440" cy="3065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47" name=""/>
          <p:cNvSpPr/>
          <p:nvPr/>
        </p:nvSpPr>
        <p:spPr>
          <a:xfrm>
            <a:off x="6400800" y="32004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C 60 cm X-ray mirr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ight: 6.2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3C32-B035-45F5-A6EA-C46492FBFF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16:13:36Z</dcterms:created>
  <dc:creator>Nikolai Piskunov</dc:creator>
  <dc:description/>
  <dc:language>en-US</dc:language>
  <cp:lastModifiedBy>Nikolai Piskunov</cp:lastModifiedBy>
  <dcterms:modified xsi:type="dcterms:W3CDTF">2008-09-12T07:39:21Z</dcterms:modified>
  <cp:revision>83</cp:revision>
  <dc:subject/>
  <dc:title>Observational Astronomy</dc:title>
</cp:coreProperties>
</file>