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57BC-3227-4B5B-A2BA-0458F9E4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F65-98BB-40AB-A527-6A0E9D17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C94B-989F-4200-BFF7-445D2475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C40D-D6A6-493B-A1EF-650C002F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DF97-990B-4367-B478-3E451332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18A3-B77C-4F20-BADB-D2C315B9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7A24-99ED-4AA0-922C-685E4DB8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33CA-E674-4B69-AF96-81BE7BA4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BD9C-793A-421C-8CBD-BF37A345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6791-8734-49A1-8246-0EF0BB24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DFE6-8161-4AF1-9207-00A9D68A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5035-EFB7-4315-8E87-7C2D6B49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BC1B-701E-4542-A649-3942BCC5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C5B7-0531-4911-8A06-A5DF8871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3D14-E60E-49AE-8E2C-2ECA140B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3EB7-85E4-4762-AAFE-9CFA227C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6A97-1A6F-4664-AFBC-5D6C3ED5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9F74-5BC1-4CC3-B73E-60B61E59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F35-081C-4A5D-8B1E-E3E69E19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4D30-B5B2-4E8C-8E92-7F1C9DAD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CFE-C9AE-4BE2-981C-77B4BF40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FA6E-6A1F-4B74-9A39-BD97EEE3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86D-3648-4470-9BFA-A1FE9D87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6629-F3AD-4E21-A8DD-B47FDBAA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96A7-96D8-4BAA-A296-78A758832DD9}" type="datetime3">
              <a:rPr b="0" lang="en-US" sz="1400" spc="-1" strike="noStrike">
                <a:solidFill>
                  <a:srgbClr val="000000"/>
                </a:solidFill>
                <a:latin typeface="Tahoma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9EC9-AD62-43A4-99E0-B134CD2B83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0FDB-7BB1-45B0-848F-2CCA82B17D8E}" type="datetime3">
              <a:rPr b="0" lang="en-US" sz="1400" spc="-1" strike="noStrike">
                <a:solidFill>
                  <a:srgbClr val="1c1c1c"/>
                </a:solidFill>
                <a:latin typeface="Tahoma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5B63-1DE3-4937-A7FA-A939E2E1A7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.eso.org/santiago/science/interf2002.html" TargetMode="External"/><Relationship Id="rId2" Type="http://schemas.openxmlformats.org/officeDocument/2006/relationships/hyperlink" Target="http://olbin.jpl.nasa.gov/intro/index.html" TargetMode="External"/><Relationship Id="rId3" Type="http://schemas.openxmlformats.org/officeDocument/2006/relationships/hyperlink" Target="http://www.eso.org/projects/vlti/genera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ervational Astrono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Astronomic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interferomete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FB71-CFC8-4AA4-BF2D-7A1F12896C5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89936C8-AB4B-4B98-AA07-5D8DD375B2B5}" type="datetime3">
              <a:rPr lang="en-US"/>
              <a:t>July 30, 20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chelson interferom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280" y="2170080"/>
            <a:ext cx="6039000" cy="4383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486400" y="1905120"/>
            <a:ext cx="365760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age at positi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if D’ =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ft beam with dela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ght beam with dela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D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 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’ ≠ 0 at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age positi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6195-3C00-49CF-BA6F-30D84B249DC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50F0C-BC2C-497F-AD66-E11DE165D81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zeau interferom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2219400"/>
            <a:ext cx="6110280" cy="4410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410080" y="1981080"/>
            <a:ext cx="358164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D’ ≠ D the image position 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’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/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D/D’ = B/B’ one find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D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’·B’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/D’·B’ =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/B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’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·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kind of re-imaging of the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lescope pupils is called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mothetic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51ED-FF6A-4693-B789-161DCDB5335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30086-0BF6-4210-AA1C-243305BCC39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LTI beam combin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ge pit with a parabolic mirror at the bottom produces spatial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ted signal on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ctor (fring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095880" y="2666880"/>
            <a:ext cx="2743200" cy="3826080"/>
            <a:chOff x="6095880" y="2666880"/>
            <a:chExt cx="2743200" cy="382608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6400440" y="2666880"/>
              <a:ext cx="2438640" cy="382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095880" y="5502240"/>
              <a:ext cx="53316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B7B-E1ED-4390-99B9-F951A34C0B2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B8246-8484-4647-B0C0-1AEBA4F3D33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ning interferomet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the two or more beams are combined co-axially the modulation is temporal (like in a classical Michelson interferome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tion is achieved by scanning the OP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2D01-B91A-42EE-82A2-E9F07C66C8D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107EA-E459-4FE4-B923-20AF08D441A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measur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visibility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               are the components of the projected bas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bility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ingle Fourier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Imaging requires good coverage of the u,v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bility is hard to measure. It is easier to measure time-average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give up 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00200" y="2324160"/>
          <a:ext cx="5562720" cy="116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24160"/>
                    <a:ext cx="556272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705040" y="3416400"/>
          <a:ext cx="16002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5040" y="3416400"/>
                    <a:ext cx="16002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CCCE-FB18-41BB-826B-6EA6F0D5741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CBE42-7247-4807-81C1-56CF98619CA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ctral dimen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ersing interferogram with e.g. a prism allows having fringes at all wavelength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ecreases the number of photons but increases fringe contr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lly one would get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spectral distribution of the original source while we measure I - the fringe amplitu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ing that the phase and the visibility are not a very strong functions of the wavelength one gets the spectrum of the source and the visibility in one s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90440" y="3657600"/>
          <a:ext cx="7801200" cy="6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3657600"/>
                    <a:ext cx="78012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0D6A-46C7-4C38-A311-DBF4881230C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67931-3A3D-4673-A4A7-BC39BB38561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LTI MID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83080" y="316080"/>
            <a:ext cx="3735360" cy="2808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6320" y="2584440"/>
            <a:ext cx="5257800" cy="4197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349960" y="3624120"/>
            <a:ext cx="3806640" cy="2853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400800" y="6415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ersed fri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30621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cal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9D08-48C2-44BB-8056-54C5AD92E88E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E7F74-BFB3-4479-AADB-38EBDF8508D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tional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mospheric turbul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velength dependence of the atmospheric refraction and absor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IR, sky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bility of an optical interferome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ng times needed to find and scan fring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544F-737E-4C86-B15E-2D425765724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E383F-714E-4F0C-81E8-D9A15EE6EC7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ful lin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gency FB"/>
                <a:hlinkClick r:id="rId1"/>
              </a:rPr>
              <a:t>http://www.sc.eso.org/santiago/science/interf2002.htm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roceedings of ESO Chile Interferometry Week 200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gency FB"/>
                <a:hlinkClick r:id="rId2"/>
              </a:rPr>
              <a:t>http://olbin.jpl.nasa.gov/intro/index.htm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Optical Long Baseline Interferometry News tutorial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gency FB"/>
                <a:hlinkClick r:id="rId3"/>
              </a:rPr>
              <a:t>http://www.eso.org/projects/vlti/gener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VLTI general description and tutorial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1B7-0132-4F9D-99D1-4AE657802E5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70929-ED8F-428D-BE05-408D048D78A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unresolved sources on the sky produc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herent wavefronts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telescope beams combined will produce an interference if the optical path lengths are the sam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666880" y="3276720"/>
            <a:ext cx="2818800" cy="837360"/>
            <a:chOff x="2666880" y="3276720"/>
            <a:chExt cx="2818800" cy="837360"/>
          </a:xfrm>
        </p:grpSpPr>
        <p:sp>
          <p:nvSpPr>
            <p:cNvPr id="104" name=""/>
            <p:cNvSpPr/>
            <p:nvPr/>
          </p:nvSpPr>
          <p:spPr>
            <a:xfrm>
              <a:off x="2666880" y="3315600"/>
              <a:ext cx="0" cy="55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94000" y="3315600"/>
              <a:ext cx="77040" cy="55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841560" y="3567960"/>
              <a:ext cx="156960" cy="48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88760" y="363600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58920" y="3502440"/>
              <a:ext cx="15696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50960" y="3315600"/>
              <a:ext cx="23472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66880" y="3276720"/>
              <a:ext cx="2584080" cy="398520"/>
            </a:xfrm>
            <a:custGeom>
              <a:avLst/>
              <a:gdLst/>
              <a:ahLst/>
              <a:rect l="l" t="t" r="r" b="b"/>
              <a:pathLst>
                <a:path w="1584" h="240">
                  <a:moveTo>
                    <a:pt x="0" y="24"/>
                  </a:moveTo>
                  <a:cubicBezTo>
                    <a:pt x="176" y="12"/>
                    <a:pt x="352" y="0"/>
                    <a:pt x="480" y="24"/>
                  </a:cubicBezTo>
                  <a:cubicBezTo>
                    <a:pt x="608" y="48"/>
                    <a:pt x="656" y="136"/>
                    <a:pt x="768" y="168"/>
                  </a:cubicBezTo>
                  <a:cubicBezTo>
                    <a:pt x="880" y="200"/>
                    <a:pt x="1016" y="240"/>
                    <a:pt x="1152" y="216"/>
                  </a:cubicBezTo>
                  <a:cubicBezTo>
                    <a:pt x="1288" y="192"/>
                    <a:pt x="1512" y="56"/>
                    <a:pt x="1584" y="24"/>
                  </a:cubicBezTo>
                </a:path>
              </a:pathLst>
            </a:custGeom>
            <a:noFill/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 txBox="1"/>
          <p:nvPr/>
        </p:nvSpPr>
        <p:spPr>
          <a:xfrm rot="21385200">
            <a:off x="2616120" y="3581280"/>
            <a:ext cx="2971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irections of propagat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86200" y="3124080"/>
            <a:ext cx="99072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Wavefro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F917-CD98-4E3C-A03F-A74995473C9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CA9BA-3E8E-4085-9C49-45CF248F718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 point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fer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42960" y="3611520"/>
            <a:ext cx="3014640" cy="1646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419720" y="1066680"/>
            <a:ext cx="476244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rot="16200000">
            <a:off x="3857400" y="5376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i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28954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ng two-pinhole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A0E1-AAB9-49CB-A654-CC5C35F46200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61780-C6D8-4ED2-B153-2BDA75D9CF3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chelson interferom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3977" t="0" r="8901" b="1236"/>
          <a:stretch/>
        </p:blipFill>
        <p:spPr>
          <a:xfrm>
            <a:off x="304920" y="2057400"/>
            <a:ext cx="3195360" cy="4621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14400" y="20574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gular size of a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2133720"/>
            <a:ext cx="5029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inge amplitude drops: the envelope is the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raction curve of individual tele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 additional drop comes from using non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ochromatic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ined fringes from an object wi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ze &g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B show reduced contr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94320" y="4468680"/>
            <a:ext cx="3483000" cy="2160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H="1">
            <a:off x="2285640" y="2819520"/>
            <a:ext cx="1676520" cy="1828800"/>
          </a:xfrm>
          <a:prstGeom prst="line">
            <a:avLst/>
          </a:prstGeom>
          <a:ln w="57240">
            <a:solidFill>
              <a:srgbClr val="0dc4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4089240"/>
            <a:ext cx="609840" cy="381240"/>
          </a:xfrm>
          <a:prstGeom prst="line">
            <a:avLst/>
          </a:prstGeom>
          <a:ln w="57240">
            <a:solidFill>
              <a:srgbClr val="0dc4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BDC1-1864-434E-AF32-6DAB75C80A6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CEAD6-4937-4476-A281-CBC94F6FE34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sibility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345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registered with an interferometer is the Fourier transform of a patch on the s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Young experiment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visibility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bility function is comple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 is the fringe contr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is the shift relative to OPD=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73200" y="3162240"/>
          <a:ext cx="6188040" cy="12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3162240"/>
                    <a:ext cx="618804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" name=""/>
          <p:cNvGrpSpPr/>
          <p:nvPr/>
        </p:nvGrpSpPr>
        <p:grpSpPr>
          <a:xfrm>
            <a:off x="5715000" y="4038480"/>
            <a:ext cx="2819520" cy="2820960"/>
            <a:chOff x="5715000" y="4038480"/>
            <a:chExt cx="2819520" cy="2820960"/>
          </a:xfrm>
        </p:grpSpPr>
        <p:pic>
          <p:nvPicPr>
            <p:cNvPr id="130" name="" descr=""/>
            <p:cNvPicPr/>
            <p:nvPr/>
          </p:nvPicPr>
          <p:blipFill>
            <a:blip r:embed="rId3"/>
            <a:srcRect l="0" t="0" r="3084" b="0"/>
            <a:stretch/>
          </p:blipFill>
          <p:spPr>
            <a:xfrm>
              <a:off x="6135840" y="4038480"/>
              <a:ext cx="239868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 rot="16200000">
              <a:off x="5327640" y="48826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ase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019920" y="41148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10640" y="64911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72200" y="655308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BF9F-1445-4994-A1B3-84A77141FA7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20BC3-AA70-4F56-8820-C3E2A75530D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 of visibility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6265" t="14651" r="7790" b="6856"/>
          <a:stretch/>
        </p:blipFill>
        <p:spPr>
          <a:xfrm>
            <a:off x="228600" y="2286000"/>
            <a:ext cx="868680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37C5-7A36-45AC-8DE4-9188E277B00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6713A-3C1A-4663-B51D-86B9636B5C8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</a:t>
            </a:r>
            <a:r>
              <a:rPr b="0" i="1" lang="en-US" sz="6600" spc="-1" strike="noStrike">
                <a:solidFill>
                  <a:srgbClr val="333399"/>
                </a:solidFill>
                <a:latin typeface="Perpetua"/>
              </a:rPr>
              <a:t>uv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pla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8527" t="0" r="4773" b="3511"/>
          <a:stretch/>
        </p:blipFill>
        <p:spPr>
          <a:xfrm>
            <a:off x="228600" y="2057400"/>
            <a:ext cx="8763120" cy="440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D28-0D75-48A4-AC87-AA63E87EFEB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5AD55-E1F2-458E-8C19-7F8BCEEEC26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ay l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93720" y="1676520"/>
            <a:ext cx="5950080" cy="48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C1EA-D53F-4E49-B1AB-169FD8D09CD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FB741-5B5B-4807-9609-1184B06813DC}" type="datetime3">
              <a:rPr lang="en-US"/>
              <a:t>July 30, 20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ngle mirror telescope is an interferometer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6680" y="1822320"/>
            <a:ext cx="6651720" cy="3321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3520" y="52578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imaging process in a single telescope is the superposition of f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terns from all combinations of baselines in the telescope pup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sking the pupil, one can select one particular 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ery star in the field of view produces fri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4EA-7CD3-44D5-8EF2-36649002AC3F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E8D4B-A1BE-4253-8D9C-E0A756BB58B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16:13:36Z</dcterms:created>
  <dc:creator>Nikolai Piskunov</dc:creator>
  <dc:description/>
  <dc:language>en-US</dc:language>
  <cp:lastModifiedBy>Nikolai Piskunov</cp:lastModifiedBy>
  <dcterms:modified xsi:type="dcterms:W3CDTF">2007-11-26T21:38:29Z</dcterms:modified>
  <cp:revision>195</cp:revision>
  <dc:subject/>
  <dc:title>Observational Astronomy</dc:title>
</cp:coreProperties>
</file>