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29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B0C076-6F1C-4A0E-A5C3-340BB55F2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6356C0-2622-4B7B-A7E7-FFABC62CA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9F30F7-2C33-4706-936E-00957A6AE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C8A9B2-5D2F-473F-84E1-E4AA9A6D0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370029-6A36-4B33-B88D-345970E96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62727B-5F35-44A2-8C98-6303C5455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212985-9FC1-4294-BDE5-C1CBA3F34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7BFC6C-991D-4254-B65F-D3CA66B98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B0552F-E5B1-4C22-B485-B1E43EBA2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389142-709F-4C8A-B83A-19570DB85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48B77A-4882-40B5-AF69-9009182D0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433593-D0E0-4CAE-AA7F-2F2CF8CEA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7BE9A8-B16A-44D0-955A-56F066146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CB4228-920B-4B94-AB2E-DA031A913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5D71EE-C1EE-4C28-AF53-63BA65CC2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BC6082-988F-46C5-A1FC-80DACDB47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EC950B-A081-4C5C-AAE4-B90ECF303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F39D45-AED5-4849-95E2-B08D80731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A9462F-65CF-4D82-A051-7928E8B2A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69C7FB-1C7A-48C6-B7B0-730CFE1F1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F878C7-6E26-4398-A336-DB5397041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6B8543-34D6-48D6-A474-D1D7A8E51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3362AF-84F8-4D82-8080-0717A71B9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639-EEF5-4C32-AE66-BC38E586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09D-92BD-424A-B0F0-280684CD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D0D-0A74-42F3-8E03-C87D58BB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9DC-024A-41F8-8D66-D4D75ADE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E6D8-3E7B-4668-8541-9D974319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5C21-AA4A-4220-9E31-392D03F9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8524-AE8C-49CA-9C10-D1E0715E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ED13-D9A8-48F5-8195-56D5421C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CEC4-F174-49A7-B7BB-C44991CF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5E53-A099-4B75-893E-B59D5A35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8BED-0F91-4531-9737-72DF2303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95C-0186-497D-B5F6-7FC7161E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FFB1-3336-43A2-9BDA-EB650F61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760B-611C-490D-AF92-F2CE1E5C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186B-4F28-466B-B6B7-8D4B7E5F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8936-02FD-4E07-8D1C-3DB17AEA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1141-40B1-476C-A432-CD3944BB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C70-2804-46F0-B139-1251CFAD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AF2-5A4A-46E0-8254-1F3AAA22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832-5C07-4040-AD6C-8139B608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483-C879-46FC-9B6A-99C9DD94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FB5-3F04-4BAF-9DC5-6E8EBC68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26A-0EC4-446C-B30E-8B2EA7C6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FD7-7340-45B5-B780-5DCEB2F8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A3C4-54CD-484A-9EF4-AA73F3CA4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B021-2451-4E05-966E-FAE7153DFDC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B137-EAF3-44CD-8454-ED7FA7CB79AA}" type="datetime3">
              <a:rPr b="0" lang="en-US" sz="1400" spc="-1" strike="noStrike">
                <a:solidFill>
                  <a:srgbClr val="1c1c1c"/>
                </a:solidFill>
                <a:latin typeface="Tahoma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3F27-4DA4-4D5B-BB10-AD95242350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al Astrono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Direct imag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Photomet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Kitchin pp. 187-217, 276-3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CB04-4F6C-4FE0-9AC3-5447016141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t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 band filters (UBV system, Johnson H.L. &amp; Morgan W.W.: 1953, ApJ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31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sun_spec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3810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planck_sun"/>
          <p:cNvPicPr/>
          <p:nvPr/>
        </p:nvPicPr>
        <p:blipFill>
          <a:blip r:embed="rId2"/>
          <a:stretch/>
        </p:blipFill>
        <p:spPr>
          <a:xfrm>
            <a:off x="762120" y="2666880"/>
            <a:ext cx="7619760" cy="3810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johnson_B"/>
          <p:cNvPicPr/>
          <p:nvPr/>
        </p:nvPicPr>
        <p:blipFill>
          <a:blip r:embed="rId3"/>
          <a:stretch/>
        </p:blipFill>
        <p:spPr>
          <a:xfrm>
            <a:off x="762120" y="2666880"/>
            <a:ext cx="7619760" cy="3810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johnson_V"/>
          <p:cNvPicPr/>
          <p:nvPr/>
        </p:nvPicPr>
        <p:blipFill>
          <a:blip r:embed="rId4"/>
          <a:stretch/>
        </p:blipFill>
        <p:spPr>
          <a:xfrm>
            <a:off x="762120" y="2666880"/>
            <a:ext cx="7619760" cy="3810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johnson_R"/>
          <p:cNvPicPr/>
          <p:nvPr/>
        </p:nvPicPr>
        <p:blipFill>
          <a:blip r:embed="rId5"/>
          <a:stretch/>
        </p:blipFill>
        <p:spPr>
          <a:xfrm>
            <a:off x="762120" y="26668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5D8D-2BE8-4241-9331-B1E63D04E8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oad-Band Filter Tech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or absorption glas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lock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high absorption shorter than certain wavelength while highly transparent at longer wavelengths) 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ell-cur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sharp cut-off at shorter wavelength and gradual drop towards longer waveleng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mission is high, up to 75-9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8C57-EF5B-4789-8A49-5226BDC941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82216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rrow-Band Filter Tech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 coating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(up to 20) dielectric layers producing interference between internal refl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ultiple transparency windows at different waveleng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be combined with broad-band fil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s low, around 20-3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3A3D-AA36-4713-BC52-8E016EB602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hromatism and other proble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ters are best used in parallel beam, otherwise they introduce chromat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lso shift focal plane (transparent glass plat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ight tilt is used to avoid ghosts (shift of optical axis) and frin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2" name="Group 14"/>
          <p:cNvGrpSpPr/>
          <p:nvPr/>
        </p:nvGrpSpPr>
        <p:grpSpPr>
          <a:xfrm>
            <a:off x="4633560" y="4800240"/>
            <a:ext cx="3900960" cy="1896120"/>
            <a:chOff x="4633560" y="4800240"/>
            <a:chExt cx="3900960" cy="1896120"/>
          </a:xfrm>
        </p:grpSpPr>
        <p:grpSp>
          <p:nvGrpSpPr>
            <p:cNvPr id="203" name="Group 11"/>
            <p:cNvGrpSpPr/>
            <p:nvPr/>
          </p:nvGrpSpPr>
          <p:grpSpPr>
            <a:xfrm>
              <a:off x="4648320" y="4800240"/>
              <a:ext cx="3416040" cy="1896120"/>
              <a:chOff x="4648320" y="4800240"/>
              <a:chExt cx="3416040" cy="1896120"/>
            </a:xfrm>
          </p:grpSpPr>
          <p:sp>
            <p:nvSpPr>
              <p:cNvPr id="204" name="Rectangle 4"/>
              <p:cNvSpPr/>
              <p:nvPr/>
            </p:nvSpPr>
            <p:spPr>
              <a:xfrm rot="498000">
                <a:off x="6285960" y="5320800"/>
                <a:ext cx="152640" cy="13716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Line 5"/>
              <p:cNvSpPr/>
              <p:nvPr/>
            </p:nvSpPr>
            <p:spPr>
              <a:xfrm>
                <a:off x="4851360" y="533376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Line 6"/>
              <p:cNvSpPr/>
              <p:nvPr/>
            </p:nvSpPr>
            <p:spPr>
              <a:xfrm>
                <a:off x="4648320" y="662940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Line 7"/>
              <p:cNvSpPr/>
              <p:nvPr/>
            </p:nvSpPr>
            <p:spPr>
              <a:xfrm>
                <a:off x="6540480" y="53719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6337080" y="6667200"/>
                <a:ext cx="15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Line 9"/>
              <p:cNvSpPr/>
              <p:nvPr/>
            </p:nvSpPr>
            <p:spPr>
              <a:xfrm flipH="1" flipV="1">
                <a:off x="4686120" y="6095880"/>
                <a:ext cx="152424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Line 10"/>
              <p:cNvSpPr/>
              <p:nvPr/>
            </p:nvSpPr>
            <p:spPr>
              <a:xfrm flipH="1" flipV="1">
                <a:off x="4825800" y="4800240"/>
                <a:ext cx="152424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1" name="Text Box 12"/>
            <p:cNvSpPr/>
            <p:nvPr/>
          </p:nvSpPr>
          <p:spPr>
            <a:xfrm>
              <a:off x="6781680" y="563868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ransmitted ligh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 rot="1056000">
              <a:off x="4647960" y="5486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flected ligh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643D-2FDC-4D30-B8C0-59803AE600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mission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5" name="Picture 5" descr="ideal"/>
          <p:cNvPicPr/>
          <p:nvPr/>
        </p:nvPicPr>
        <p:blipFill>
          <a:blip r:embed="rId1"/>
          <a:stretch/>
        </p:blipFill>
        <p:spPr>
          <a:xfrm>
            <a:off x="0" y="18288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vfilters"/>
          <p:cNvPicPr/>
          <p:nvPr/>
        </p:nvPicPr>
        <p:blipFill>
          <a:blip r:embed="rId2"/>
          <a:stretch/>
        </p:blipFill>
        <p:spPr>
          <a:xfrm>
            <a:off x="5486400" y="18288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twoccds"/>
          <p:cNvPicPr/>
          <p:nvPr/>
        </p:nvPicPr>
        <p:blipFill>
          <a:blip r:embed="rId3"/>
          <a:stretch/>
        </p:blipFill>
        <p:spPr>
          <a:xfrm>
            <a:off x="0" y="43434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0"/>
          <p:cNvSpPr/>
          <p:nvPr/>
        </p:nvSpPr>
        <p:spPr>
          <a:xfrm>
            <a:off x="3505320" y="2590920"/>
            <a:ext cx="1904760" cy="533160"/>
          </a:xfrm>
          <a:prstGeom prst="rightArrow">
            <a:avLst>
              <a:gd name="adj1" fmla="val 50000"/>
              <a:gd name="adj2" fmla="val 8931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13" descr="vfiltccd"/>
          <p:cNvPicPr/>
          <p:nvPr/>
        </p:nvPicPr>
        <p:blipFill>
          <a:blip r:embed="rId4"/>
          <a:stretch/>
        </p:blipFill>
        <p:spPr>
          <a:xfrm>
            <a:off x="5486400" y="4565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4"/>
          <p:cNvSpPr/>
          <p:nvPr/>
        </p:nvSpPr>
        <p:spPr>
          <a:xfrm>
            <a:off x="6553080" y="411480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AutoShape 15"/>
          <p:cNvSpPr/>
          <p:nvPr/>
        </p:nvSpPr>
        <p:spPr>
          <a:xfrm>
            <a:off x="3505320" y="5257800"/>
            <a:ext cx="1904760" cy="457200"/>
          </a:xfrm>
          <a:prstGeom prst="rightArrow">
            <a:avLst>
              <a:gd name="adj1" fmla="val 50000"/>
              <a:gd name="adj2" fmla="val 1041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3E29-024A-4FFC-A57B-D4925FC694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otomet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cal one-channel photomet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FIG4"/>
          <p:cNvPicPr/>
          <p:nvPr/>
        </p:nvPicPr>
        <p:blipFill>
          <a:blip r:embed="rId1"/>
          <a:stretch/>
        </p:blipFill>
        <p:spPr>
          <a:xfrm>
            <a:off x="971640" y="2438280"/>
            <a:ext cx="7200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F2E1-545B-4B0E-B169-97863E186E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o we measure and how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gnitu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selected such that Vega will be 0 magnitude in all col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stellar extinction: objects with the same SED located in different directions and distances will have different magnitu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(The main source of extinction is the scattering and absorption-heating of the dust particles and their main effect is to "redden" the energy distribution). Color exc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3352680" y="1924200"/>
          <a:ext cx="3353040" cy="57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924200"/>
                    <a:ext cx="3353040" cy="57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5"/>
          <p:cNvGraphicFramePr/>
          <p:nvPr/>
        </p:nvGraphicFramePr>
        <p:xfrm>
          <a:off x="1600200" y="2438280"/>
          <a:ext cx="712008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438280"/>
                    <a:ext cx="712008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" name="Object 6"/>
          <p:cNvGraphicFramePr/>
          <p:nvPr/>
        </p:nvGraphicFramePr>
        <p:xfrm>
          <a:off x="1600200" y="6095880"/>
          <a:ext cx="640080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6095880"/>
                    <a:ext cx="64008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3139-3C47-4ECB-AE67-9F5B3D9B61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What and How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variation of extinction with wavelength is similar for all directions: we measure color excess in one band then scale it to other band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Knowing scaling parameters (in principle) allows to convert apparent magnitudes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300" spc="-1" strike="noStrike" u="sng">
                <a:solidFill>
                  <a:srgbClr val="000000"/>
                </a:solidFill>
                <a:uFillTx/>
                <a:latin typeface="Tahoma"/>
              </a:rPr>
              <a:t>absolute magnitudes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. Absolute magnitude is the apparent magnitude of the same object at a distance of 10 parsecs:</a:t>
            </a: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300"/>
            </a:b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s the distance and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s the interstellar extinction, which can be estimated from the color excess in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B-V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and scaled: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2" name="Object 8"/>
          <p:cNvGraphicFramePr/>
          <p:nvPr/>
        </p:nvGraphicFramePr>
        <p:xfrm>
          <a:off x="2752560" y="4127400"/>
          <a:ext cx="40179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4127400"/>
                    <a:ext cx="40179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1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5" name="Object 10"/>
          <p:cNvGraphicFramePr/>
          <p:nvPr/>
        </p:nvGraphicFramePr>
        <p:xfrm>
          <a:off x="2181240" y="5607000"/>
          <a:ext cx="538308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1240" y="5607000"/>
                    <a:ext cx="53830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D44E-6454-4AF3-A691-8627E98949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What and How (I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olute magnitu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es not a measure the total irradi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olometric magnitu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(bol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defined as the absolute magnitude that would be measured by an ideal bolometer exposed to all of the radiation from an object in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lation between bolometric magnitude and the absolute magnitu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quires the knowledge of the bolometric correc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.C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.C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solar-type stars is set close to 0 and it grows for hotter and cooler objec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Object 10"/>
          <p:cNvGraphicFramePr/>
          <p:nvPr/>
        </p:nvGraphicFramePr>
        <p:xfrm>
          <a:off x="2895480" y="4935600"/>
          <a:ext cx="320040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935600"/>
                    <a:ext cx="320040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A050-898B-4BCB-9242-45C7267234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and differential photomet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diation in a given band is affected by the atmosphere, telescope, photometer and detector. All of these must be calibr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olute photometry is done either from space or with absolute calibration e.g. against a black body standard sour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1EB5-A16F-4B42-88DE-E677E50B83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tronomical Imag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 go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s many objects as possib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e.g. clusters, star-forming reg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s large range of surface brightness as possib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e.g. galax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1447920" y="2055960"/>
            <a:ext cx="3809880" cy="11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i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6934320" y="990720"/>
            <a:ext cx="10666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e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142E-EE18-46B9-B443-8CBCBA614D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and differential photometry 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absolute measurements are done for a few objects they can be used as stand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hotometry measures flux difference in a given band between a target and a standa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tions should be close on the sky and in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ical sequenc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lt;selecting band&gt;:&lt;standard&gt; - &lt;target&gt; - &lt;standard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D5B7-187B-49FF-8B5D-E511F0C519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CD Photomet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spcBef>
                <a:spcPts val="799"/>
              </a:spcBef>
              <a:buClr>
                <a:srgbClr val="3333cc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objects at once (standards and targ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Clr>
                <a:srgbClr val="3333cc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 dynamic r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Clr>
                <a:srgbClr val="3333cc"/>
              </a:buClr>
              <a:buSzPct val="15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F is spread over several pix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Clr>
                <a:srgbClr val="3333cc"/>
              </a:buClr>
              <a:buSzPct val="15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s have different sensitivity and color sensi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Clr>
                <a:srgbClr val="3333cc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tometry of extended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6165-4717-4457-8C88-A2F1C46558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time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ction Man"/>
              </a:rPr>
              <a:t>Astronomical detect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6AE5-E7A9-487F-BDC5-6F93F7D1EB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de Field Imager: V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ST is a 2.6m f/5.5 Cassegrain tele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ed FoV is 1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º square with angular resolution of 0.5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ocal plane is equipped wi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16kx16k CCD mosaic camera with a 1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ix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5" descr="image_for_web_page_green"/>
          <p:cNvPicPr/>
          <p:nvPr/>
        </p:nvPicPr>
        <p:blipFill>
          <a:blip r:embed="rId1"/>
          <a:stretch/>
        </p:blipFill>
        <p:spPr>
          <a:xfrm>
            <a:off x="5486400" y="1866960"/>
            <a:ext cx="3648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35E6-0043-4ED1-9322-03D3749C1B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ST Op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3048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layout inclu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C, field correcto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 sca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al length=2.6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5=14.3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”= 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1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36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-6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 (1 ra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200000”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ution element: 0.5”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.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000" spc="-1" strike="noStrike" baseline="40000">
                <a:solidFill>
                  <a:srgbClr val="000000"/>
                </a:solidFill>
                <a:latin typeface="Tahoma"/>
              </a:rPr>
              <a:t>-6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14.3m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3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3 CCD pixel (nearly perfect Nyquist sampl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5" descr="image1"/>
          <p:cNvPicPr/>
          <p:nvPr/>
        </p:nvPicPr>
        <p:blipFill>
          <a:blip r:embed="rId1"/>
          <a:stretch/>
        </p:blipFill>
        <p:spPr>
          <a:xfrm>
            <a:off x="4267080" y="577800"/>
            <a:ext cx="48006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C7F2-E04F-423E-9A4F-2104F9CD48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ampling Theorem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Agency FB"/>
              </a:rPr>
              <a:t>(</a:t>
            </a:r>
            <a:r>
              <a:rPr b="1" lang="en-US" sz="2800" spc="-1" strike="noStrike">
                <a:solidFill>
                  <a:srgbClr val="333399"/>
                </a:solidFill>
                <a:latin typeface="Agency FB"/>
              </a:rPr>
              <a:t>Whittaker-Nyquist-Kotelnikov-Shannon sampling theorem</a:t>
            </a:r>
            <a:r>
              <a:rPr b="0" lang="en-US" sz="2800" spc="-1" strike="noStrike">
                <a:solidFill>
                  <a:srgbClr val="333399"/>
                </a:solidFill>
                <a:latin typeface="Agency FB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sampling frequ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greater than twi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bandwidth of the input signal in order to “perfectly” reconstruct the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Gaussian PS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HWHM and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maximum frequency. Thus FWHM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6" descr="nyquist"/>
          <p:cNvPicPr/>
          <p:nvPr/>
        </p:nvPicPr>
        <p:blipFill>
          <a:blip r:embed="rId1"/>
          <a:stretch/>
        </p:blipFill>
        <p:spPr>
          <a:xfrm>
            <a:off x="685800" y="4514760"/>
            <a:ext cx="4572000" cy="2343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5334120" y="4375080"/>
            <a:ext cx="3352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 sampling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Once per peri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Twice per peri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Nyquist samp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Object 8"/>
          <p:cNvGraphicFramePr/>
          <p:nvPr/>
        </p:nvGraphicFramePr>
        <p:xfrm>
          <a:off x="3352680" y="3086280"/>
          <a:ext cx="2818080" cy="5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086280"/>
                    <a:ext cx="2818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9"/>
          <p:cNvGraphicFramePr/>
          <p:nvPr/>
        </p:nvGraphicFramePr>
        <p:xfrm>
          <a:off x="2827440" y="3809880"/>
          <a:ext cx="3497040" cy="47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27440" y="3809880"/>
                    <a:ext cx="34970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Picture 10" descr="Nyquist_sampling"/>
          <p:cNvPicPr/>
          <p:nvPr/>
        </p:nvPicPr>
        <p:blipFill>
          <a:blip r:embed="rId6"/>
          <a:stretch/>
        </p:blipFill>
        <p:spPr>
          <a:xfrm>
            <a:off x="7848720" y="2819520"/>
            <a:ext cx="866520" cy="354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Nyquist_Gauss"/>
          <p:cNvPicPr/>
          <p:nvPr/>
        </p:nvPicPr>
        <p:blipFill>
          <a:blip r:embed="rId7"/>
          <a:stretch/>
        </p:blipFill>
        <p:spPr>
          <a:xfrm>
            <a:off x="5029200" y="0"/>
            <a:ext cx="4114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E43B-106B-44FA-8279-BD888B2502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dedicated telesco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LT+F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5" descr="CrabNebula"/>
          <p:cNvPicPr/>
          <p:nvPr/>
        </p:nvPicPr>
        <p:blipFill>
          <a:blip r:embed="rId1"/>
          <a:stretch/>
        </p:blipFill>
        <p:spPr>
          <a:xfrm>
            <a:off x="5105520" y="3276720"/>
            <a:ext cx="3873240" cy="3360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phot-40a-99-normal"/>
          <p:cNvPicPr/>
          <p:nvPr/>
        </p:nvPicPr>
        <p:blipFill>
          <a:blip r:embed="rId2"/>
          <a:stretch/>
        </p:blipFill>
        <p:spPr>
          <a:xfrm>
            <a:off x="457200" y="2573280"/>
            <a:ext cx="4533840" cy="3394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533520" y="603396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al Reducer/low dispersion Spectrograp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105520" y="1828800"/>
            <a:ext cx="40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T UT (8.2m f/13.4)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focal length=8.2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.4=108.8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e scale in Cassegra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1800" spc="-1" strike="noStrike" baseline="4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a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108.8m ≈ 5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arcse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632E-0404-4E62-B21B-65A9EF95F9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cal Reduc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pose: adjusting plate scale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de benefits: collimated beam is good for fil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18"/>
          <p:cNvGrpSpPr/>
          <p:nvPr/>
        </p:nvGrpSpPr>
        <p:grpSpPr>
          <a:xfrm>
            <a:off x="1143000" y="2743200"/>
            <a:ext cx="7315200" cy="2057400"/>
            <a:chOff x="1143000" y="2743200"/>
            <a:chExt cx="7315200" cy="2057400"/>
          </a:xfrm>
        </p:grpSpPr>
        <p:sp>
          <p:nvSpPr>
            <p:cNvPr id="145" name="Oval 19"/>
            <p:cNvSpPr/>
            <p:nvPr/>
          </p:nvSpPr>
          <p:spPr>
            <a:xfrm>
              <a:off x="3048120" y="2743200"/>
              <a:ext cx="152280" cy="2057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6172200" y="3314880"/>
              <a:ext cx="7632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21"/>
            <p:cNvSpPr/>
            <p:nvPr/>
          </p:nvSpPr>
          <p:spPr>
            <a:xfrm>
              <a:off x="1219320" y="3772080"/>
              <a:ext cx="7238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Line 22"/>
            <p:cNvSpPr/>
            <p:nvPr/>
          </p:nvSpPr>
          <p:spPr>
            <a:xfrm>
              <a:off x="1143000" y="278136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Line 23"/>
            <p:cNvSpPr/>
            <p:nvPr/>
          </p:nvSpPr>
          <p:spPr>
            <a:xfrm>
              <a:off x="1143000" y="473724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0" name="Group 24"/>
            <p:cNvGrpSpPr/>
            <p:nvPr/>
          </p:nvGrpSpPr>
          <p:grpSpPr>
            <a:xfrm>
              <a:off x="3124440" y="3771720"/>
              <a:ext cx="4952880" cy="990360"/>
              <a:chOff x="3124440" y="3771720"/>
              <a:chExt cx="4952880" cy="990360"/>
            </a:xfrm>
          </p:grpSpPr>
          <p:sp>
            <p:nvSpPr>
              <p:cNvPr id="151" name="Line 25"/>
              <p:cNvSpPr/>
              <p:nvPr/>
            </p:nvSpPr>
            <p:spPr>
              <a:xfrm flipV="1">
                <a:off x="5029200" y="3771720"/>
                <a:ext cx="30481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Line 26"/>
              <p:cNvSpPr/>
              <p:nvPr/>
            </p:nvSpPr>
            <p:spPr>
              <a:xfrm flipV="1">
                <a:off x="3124440" y="4152600"/>
                <a:ext cx="304776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3" name="Group 27"/>
            <p:cNvGrpSpPr/>
            <p:nvPr/>
          </p:nvGrpSpPr>
          <p:grpSpPr>
            <a:xfrm>
              <a:off x="3137040" y="2782080"/>
              <a:ext cx="4952880" cy="990360"/>
              <a:chOff x="3137040" y="2782080"/>
              <a:chExt cx="4952880" cy="990360"/>
            </a:xfrm>
          </p:grpSpPr>
          <p:sp>
            <p:nvSpPr>
              <p:cNvPr id="154" name="Line 28"/>
              <p:cNvSpPr/>
              <p:nvPr/>
            </p:nvSpPr>
            <p:spPr>
              <a:xfrm>
                <a:off x="5041800" y="3162960"/>
                <a:ext cx="30481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Line 29"/>
              <p:cNvSpPr/>
              <p:nvPr/>
            </p:nvSpPr>
            <p:spPr>
              <a:xfrm>
                <a:off x="3137040" y="2782080"/>
                <a:ext cx="304776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" name="Line 30"/>
            <p:cNvSpPr/>
            <p:nvPr/>
          </p:nvSpPr>
          <p:spPr>
            <a:xfrm>
              <a:off x="6222960" y="3390840"/>
              <a:ext cx="7621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 flipV="1">
              <a:off x="6222960" y="377208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" name="Group 43"/>
          <p:cNvGrpSpPr/>
          <p:nvPr/>
        </p:nvGrpSpPr>
        <p:grpSpPr>
          <a:xfrm>
            <a:off x="685800" y="2590920"/>
            <a:ext cx="8153280" cy="2361960"/>
            <a:chOff x="685800" y="2590920"/>
            <a:chExt cx="8153280" cy="2361960"/>
          </a:xfrm>
        </p:grpSpPr>
        <p:sp>
          <p:nvSpPr>
            <p:cNvPr id="159" name="Rectangle 42"/>
            <p:cNvSpPr/>
            <p:nvPr/>
          </p:nvSpPr>
          <p:spPr>
            <a:xfrm>
              <a:off x="685800" y="2590920"/>
              <a:ext cx="815328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" name="Group 41"/>
            <p:cNvGrpSpPr/>
            <p:nvPr/>
          </p:nvGrpSpPr>
          <p:grpSpPr>
            <a:xfrm>
              <a:off x="1143000" y="2743200"/>
              <a:ext cx="7315200" cy="2057400"/>
              <a:chOff x="1143000" y="2743200"/>
              <a:chExt cx="7315200" cy="2057400"/>
            </a:xfrm>
          </p:grpSpPr>
          <p:grpSp>
            <p:nvGrpSpPr>
              <p:cNvPr id="161" name="Group 35"/>
              <p:cNvGrpSpPr/>
              <p:nvPr/>
            </p:nvGrpSpPr>
            <p:grpSpPr>
              <a:xfrm>
                <a:off x="4800600" y="3048120"/>
                <a:ext cx="380880" cy="1447560"/>
                <a:chOff x="4800600" y="3048120"/>
                <a:chExt cx="380880" cy="1447560"/>
              </a:xfrm>
            </p:grpSpPr>
            <p:sp>
              <p:nvSpPr>
                <p:cNvPr id="162" name="Rectangle 34"/>
                <p:cNvSpPr/>
                <p:nvPr/>
              </p:nvSpPr>
              <p:spPr>
                <a:xfrm>
                  <a:off x="4876560" y="3048120"/>
                  <a:ext cx="228600" cy="144756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3" name="Oval 32"/>
                <p:cNvSpPr/>
                <p:nvPr/>
              </p:nvSpPr>
              <p:spPr>
                <a:xfrm>
                  <a:off x="4800600" y="3048120"/>
                  <a:ext cx="152280" cy="1447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4" name="Oval 33"/>
                <p:cNvSpPr/>
                <p:nvPr/>
              </p:nvSpPr>
              <p:spPr>
                <a:xfrm>
                  <a:off x="5029200" y="3048120"/>
                  <a:ext cx="152280" cy="1447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5" name="Oval 4"/>
              <p:cNvSpPr/>
              <p:nvPr/>
            </p:nvSpPr>
            <p:spPr>
              <a:xfrm>
                <a:off x="3048120" y="2743200"/>
                <a:ext cx="152280" cy="20574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Oval 5"/>
              <p:cNvSpPr/>
              <p:nvPr/>
            </p:nvSpPr>
            <p:spPr>
              <a:xfrm>
                <a:off x="6515280" y="3086280"/>
                <a:ext cx="75960" cy="137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" name="Line 6"/>
              <p:cNvSpPr/>
              <p:nvPr/>
            </p:nvSpPr>
            <p:spPr>
              <a:xfrm>
                <a:off x="1219320" y="3772080"/>
                <a:ext cx="723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7"/>
              <p:cNvSpPr/>
              <p:nvPr/>
            </p:nvSpPr>
            <p:spPr>
              <a:xfrm>
                <a:off x="1143000" y="278136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Line 8"/>
              <p:cNvSpPr/>
              <p:nvPr/>
            </p:nvSpPr>
            <p:spPr>
              <a:xfrm>
                <a:off x="1143000" y="473724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Line 15"/>
              <p:cNvSpPr/>
              <p:nvPr/>
            </p:nvSpPr>
            <p:spPr>
              <a:xfrm>
                <a:off x="6553080" y="3124080"/>
                <a:ext cx="762120" cy="64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Line 16"/>
              <p:cNvSpPr/>
              <p:nvPr/>
            </p:nvSpPr>
            <p:spPr>
              <a:xfrm flipV="1">
                <a:off x="6553080" y="3771720"/>
                <a:ext cx="76212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Line 37"/>
              <p:cNvSpPr/>
              <p:nvPr/>
            </p:nvSpPr>
            <p:spPr>
              <a:xfrm>
                <a:off x="3124080" y="2793960"/>
                <a:ext cx="1879560" cy="34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Line 38"/>
              <p:cNvSpPr/>
              <p:nvPr/>
            </p:nvSpPr>
            <p:spPr>
              <a:xfrm flipV="1">
                <a:off x="3124080" y="4393800"/>
                <a:ext cx="1879560" cy="34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Line 39"/>
              <p:cNvSpPr/>
              <p:nvPr/>
            </p:nvSpPr>
            <p:spPr>
              <a:xfrm>
                <a:off x="5029200" y="312408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Line 40"/>
              <p:cNvSpPr/>
              <p:nvPr/>
            </p:nvSpPr>
            <p:spPr>
              <a:xfrm>
                <a:off x="5029200" y="439416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0A48-4BDC-4422-811A-FCE37AF0B3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 workhorse: ALFOS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Picture 4" descr="alfosc"/>
          <p:cNvPicPr/>
          <p:nvPr/>
        </p:nvPicPr>
        <p:blipFill>
          <a:blip r:embed="rId1"/>
          <a:srcRect l="8672" t="23761" r="5094" b="14729"/>
          <a:stretch/>
        </p:blipFill>
        <p:spPr>
          <a:xfrm>
            <a:off x="152280" y="2211480"/>
            <a:ext cx="87631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F99C-CB03-4DF2-9F8B-9462B3EF5A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conventional instrument: F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" name="Picture 5" descr="cut_col"/>
          <p:cNvPicPr/>
          <p:nvPr/>
        </p:nvPicPr>
        <p:blipFill>
          <a:blip r:embed="rId1"/>
          <a:stretch/>
        </p:blipFill>
        <p:spPr>
          <a:xfrm>
            <a:off x="155520" y="2095560"/>
            <a:ext cx="4181400" cy="4457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fors_optics"/>
          <p:cNvPicPr/>
          <p:nvPr/>
        </p:nvPicPr>
        <p:blipFill>
          <a:blip r:embed="rId2"/>
          <a:srcRect l="5880" t="0" r="29629" b="9431"/>
          <a:stretch/>
        </p:blipFill>
        <p:spPr>
          <a:xfrm>
            <a:off x="4343400" y="1581120"/>
            <a:ext cx="2819520" cy="5124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7086600" y="152388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6781680" y="45244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resolutions: 0.2” and 0.1” by changing collimators and CCD bin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16:13:36Z</dcterms:created>
  <dc:creator>Nikolai Piskunov</dc:creator>
  <dc:description/>
  <dc:language>en-US</dc:language>
  <cp:lastModifiedBy>nikolai</cp:lastModifiedBy>
  <dcterms:modified xsi:type="dcterms:W3CDTF">2011-10-26T07:59:50Z</dcterms:modified>
  <cp:revision>111</cp:revision>
  <dc:subject/>
  <dc:title>Observational Astronomy</dc:title>
</cp:coreProperties>
</file>